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D66-82B2-4EDA-A72E-099406D1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C1B-7545-4689-8DD1-231B6FAA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548-DE27-4D0F-ADD3-E2C1601A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C01-548F-4301-AA51-DB2ED96A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274-1568-426E-B0C5-3B332A3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F66-190A-4F60-BAEB-C852A429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BE2-A366-42CB-9F6A-EBCB1123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F41-4FBA-4726-8847-605C2AE7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B89-7EB5-456F-832C-0D9EEB0A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69F-C05C-4F13-852C-176E23F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A19-ED02-4B7C-8DC7-E65B2B9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6F9-4CF2-47B9-8073-E28AC5C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3976-BE6E-4185-B9E8-8047D84519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GH-S500 Dump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신그래픽"/>
              </a:rPr>
              <a:t>Version 3.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SAMSUNG ELECTRONIC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576-0963-4E9E-A4A5-09FCF778A9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FORE DUMP OR ERASE FLASH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 off the mobile phon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nect download cab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바탕"/>
              </a:rPr>
              <a:t>SGH-S500 Dumper 128M pro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바탕"/>
              </a:rPr>
              <a:t>Set com port &amp; baud r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16D-BB83-4602-A6ED-054777571B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MP FLASH MEMOR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바탕"/>
              </a:rPr>
              <a:t>Click Start Address and select address in the Start Address window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바탕"/>
              </a:rPr>
              <a:t>Select End Addres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바탕"/>
              </a:rPr>
              <a:t>Click START button and press power-on key of the mobil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바탕"/>
              </a:rPr>
              <a:t>dump.txt is created in this program directory ( ex)C:\SGH-S500 dumper 128M V3_2\dump.txt 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바탕"/>
              </a:rPr>
              <a:t>Rename dump.txt because new dumped file is also concatenated in this fil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17188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87632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DUMP6" descr=""/>
          <p:cNvPicPr/>
          <p:nvPr/>
        </p:nvPicPr>
        <p:blipFill>
          <a:blip r:embed="rId1"/>
          <a:stretch/>
        </p:blipFill>
        <p:spPr>
          <a:xfrm>
            <a:off x="4824360" y="1981080"/>
            <a:ext cx="34560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34D-F3AD-43D2-B7C7-803448E9E3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ASE FLASH MEMOR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ERASE and ERASE FLAS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lash Eraser window appear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oose Erase all the flash(All Flash Erase) or Erase the selected range(Selective Eras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DUMP2" descr=""/>
          <p:cNvPicPr/>
          <p:nvPr/>
        </p:nvPicPr>
        <p:blipFill>
          <a:blip r:embed="rId1"/>
          <a:stretch/>
        </p:blipFill>
        <p:spPr>
          <a:xfrm>
            <a:off x="4648320" y="2284560"/>
            <a:ext cx="3809880" cy="350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7DE-76CE-4BB2-B47C-0AA9717C9A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ASE All AREA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 Select Mode as All Flash Erase (defaul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바탕"/>
              </a:rPr>
              <a:t>Click START button and press power-on key of the mobil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ase Address shows the status of erasing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17188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DUMP3" descr=""/>
          <p:cNvPicPr/>
          <p:nvPr/>
        </p:nvPicPr>
        <p:blipFill>
          <a:blip r:embed="rId1"/>
          <a:stretch/>
        </p:blipFill>
        <p:spPr>
          <a:xfrm>
            <a:off x="4648320" y="2166840"/>
            <a:ext cx="3809880" cy="37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DFA-6C79-4B83-9A52-AE8A104C45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ASE SELECTIVE  AREA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 Black"/>
              </a:rPr>
              <a:t>Set Select Mode as Selective Eras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 Black"/>
                <a:ea typeface="바탕"/>
              </a:rPr>
              <a:t>Click Start Address and select address in the Start Address window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 Black"/>
                <a:ea typeface="바탕"/>
              </a:rPr>
              <a:t>Select End Addres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 Black"/>
                <a:ea typeface="바탕"/>
              </a:rPr>
              <a:t>Click START button and press power-on key of the mobil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17188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87632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DUMP4" descr=""/>
          <p:cNvPicPr/>
          <p:nvPr/>
        </p:nvPicPr>
        <p:blipFill>
          <a:blip r:embed="rId1"/>
          <a:stretch/>
        </p:blipFill>
        <p:spPr>
          <a:xfrm>
            <a:off x="4803840" y="1981080"/>
            <a:ext cx="34970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AB3-B673-4EB6-9D8C-919C89FE21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9:44:35Z</dcterms:created>
  <dc:creator>kwlee34</dc:creator>
  <dc:description/>
  <dc:language>en-US</dc:language>
  <cp:lastModifiedBy>김성윤s</cp:lastModifiedBy>
  <dcterms:modified xsi:type="dcterms:W3CDTF">2003-06-17T10:34:45Z</dcterms:modified>
  <cp:revision>5</cp:revision>
  <dc:subject/>
  <dc:title>SGH-S500 Dumper</dc:title>
</cp:coreProperties>
</file>