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44.jpeg" ContentType="image/jpeg"/>
  <Override PartName="/ppt/media/image33.jpeg" ContentType="image/jpeg"/>
  <Override PartName="/ppt/media/image9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30.png" ContentType="image/png"/>
  <Override PartName="/ppt/media/image42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4A0-02EC-44FC-B633-BA531476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451-B075-4641-99FF-5062EECD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3E96A-4D57-4C9A-B747-81B0A28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1F324-02F7-47EC-BEF3-53BCC023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D886C-0B2C-47B9-B141-1BCB9C16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25B87-DBE0-4A19-A6F1-88A1891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9EDBB-47A5-4734-9525-ED9971A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C1645-17AB-4746-8853-BAA13B6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E1BDA-5F58-4C37-8ED4-66B0BA5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7EC78-2CCA-4BD8-9F0F-B1C7EEEE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75DB1-A6DE-4002-B04E-0072BBE5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4E4-8854-426E-8EC6-C3AB28BE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D6D-2501-4B4B-BB4C-AB62B8C2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4204-D718-48F1-AFBD-3495F86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59B-3B96-40AE-8D03-3E6FBFC5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EC24-2593-4683-8A9B-E51A70C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9D8-80AA-4C33-A2D3-C3CC187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133-E1EB-4DA0-AE5C-EEEBD729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0C9-8156-43CC-8B4C-3CE7365C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A0F9-9375-44D0-B818-ADDA6A6F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958-8ACA-4BB7-B552-7F6360C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B5B2-D7FC-4414-9855-F04FE1F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641-9C86-44DB-889D-EEB3A5A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4944-1D19-4016-A0C4-44D0F08C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BBB0-D556-4156-B30C-23FE2B18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083C-FCD6-4E4A-9F49-D066CB04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FB4D-BF5A-4D49-9E80-1B151DEE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EFDA-A392-4B7E-B768-075737B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6B9D-04AB-49BF-A87F-EB36C242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6323-C936-406A-9783-4042645B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3CC6-D3E9-4EE9-B834-C1B530D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EAF-4DA2-4F97-8F8A-536E0130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658E-C956-47A5-8B5C-EE62E68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ECAC-7AF0-4349-AA4F-7AE38FE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1FFF-4373-48A4-89C2-0EE3AA9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AB49-559A-4F34-A756-D8AEB7D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EB99-3576-49ED-B5A2-695D13D4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DAE8-0321-429E-B753-695F5F2A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5A70-5017-4413-8F63-71F920F5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E197-EEE2-48E5-B1ED-484D8C42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1D94-55A1-4F29-B543-3E2F6C27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6331-2B1C-4C95-A8CC-184E82B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E50-26B6-44F7-9E4F-386232AD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2E3E-FF27-429C-961F-8C4E7F7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B89E-FDD0-4B5C-9A2E-7CF6F01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3AE0-3322-4770-9EB1-08265A73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C4A8-0564-406C-B89A-21398B0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93D8-5BC9-4006-B5A9-6F6143F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8985-E5CE-4605-8089-A36A55C7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34C0-14F9-4CE8-A1A0-C331EB1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F50E3-A0FD-422B-A4E2-B40F5CB2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FB34-38E2-4551-BBF6-E0E058A0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ECB44-A85E-4A76-9D5F-1CD2DE63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CEB-FF6C-4226-99AD-1D20329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B9E0A-8DD5-4D98-ABA1-9D9E531F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5F5D-4241-4EF6-879A-A5330C6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C5A8-E1A6-496A-8747-0873055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B3F1-4B17-4938-82C2-7AE069F6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9AC8-F53E-468C-BF35-B4E75A80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DF7C-CD90-4B39-A373-51669EB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AB29-1B7E-4C3F-A651-EA9FF1A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E29C-FE31-46C6-8C35-87EDCB9C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EA52-61A1-44ED-9E68-8E8913DA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53740-E978-4905-AE94-F87A75A7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473-5AF6-4474-BD7C-B30617EF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9FBC-3DED-447F-BD46-1003C13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A264-3516-4D55-A487-F5E39985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8A6A-9CDC-482A-A800-9A6145D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5F6C-5978-46C1-8F32-C1EA9657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9F76-C671-437E-948D-99EAEB7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3123D-5374-4249-A34B-205A60FB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D4126-D1D7-4D85-9413-D76C510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61C9-62F0-4E2D-BD12-1811DC0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3796-6E83-4225-B285-4A4D91C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8B9B4-8963-4BA1-BA82-0F1E1D3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61C-A6C1-4DC0-995D-B78B6C6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4E6ED-F4C8-4F76-AB1C-D4DB766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AE64-4F55-4AA7-AB11-3958C13B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1B72-AEF2-4D71-BE35-395A854F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635B6-2BB8-49AA-8C80-AF7ADC30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EAD15-C009-43F6-94C0-CEC9978D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606F-BDEB-4E1A-B1D9-EF0ADF29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CF64-CA11-40E7-8288-3A842AA2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06524-5DEA-47A9-999B-FC09B1B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25F9-13C8-4FFD-8FE7-E6771DBB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3EA5-5D61-4383-A6D6-88CE91C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E49-D254-49D7-9437-E17869C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6E04-4262-423F-99E3-09C4D032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54E7C-F375-4FDA-9E3A-FFB0384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BCF9-D6F8-44C6-9569-043FE3D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D248-76A9-43EE-BB27-1B041C5F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90B3-3053-4A9C-94B2-8A24834C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A7CA-9610-4F07-85FD-4601B304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F1C9-AE3C-4EE9-93E9-76FD5BF8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88F40-9E89-4FE7-9D64-B8B60250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7C35A-D337-44EB-B70D-A4A7B09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99E7-4DD5-4C61-B303-0794CEA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924-EF3D-4838-A9A4-088EFEB5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5E7D-0DA9-41D6-99C1-C530217A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1FDD6-05BA-460E-8832-C4FDEA0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80CD-800A-4F1D-9142-C4DB4E1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AD286-8CAB-44B7-97C5-7F71B21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659B7-8F7E-4523-8010-1FFD5B4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26E71-B962-4A92-B6AF-5DBFD8A6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FEC5-3B5B-49A1-9EEB-CA2E77B8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4AF41-6330-4B8E-B115-DE6C3216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8CB61-7600-4ADA-96C3-29D5613F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77289-2F7F-4C95-9012-80FDF59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326-2DBC-46AD-9287-ECEAB007F3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Text Box 4"/>
          <p:cNvGrpSpPr/>
          <p:nvPr/>
        </p:nvGrpSpPr>
        <p:grpSpPr>
          <a:xfrm>
            <a:off x="-19080" y="6534000"/>
            <a:ext cx="9175680" cy="336600"/>
            <a:chOff x="-19080" y="6534000"/>
            <a:chExt cx="9175680" cy="336600"/>
          </a:xfrm>
        </p:grpSpPr>
        <p:pic>
          <p:nvPicPr>
            <p:cNvPr id="15" name="Text Box 4" descr=""/>
            <p:cNvPicPr/>
            <p:nvPr/>
          </p:nvPicPr>
          <p:blipFill>
            <a:blip r:embed="rId6"/>
            <a:stretch/>
          </p:blipFill>
          <p:spPr>
            <a:xfrm>
              <a:off x="-19080" y="6534000"/>
              <a:ext cx="9175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>
              <a:off x="0" y="655308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anklin Gothic Book"/>
                </a:rPr>
                <a:t>Meridian Mobile Pvt. Lt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Straight Connector 13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4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E7F-B89B-4BAF-BA48-7AAE53D3DA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Text Box 4"/>
          <p:cNvGrpSpPr/>
          <p:nvPr/>
        </p:nvGrpSpPr>
        <p:grpSpPr>
          <a:xfrm>
            <a:off x="-19080" y="6534000"/>
            <a:ext cx="9175680" cy="336600"/>
            <a:chOff x="-19080" y="6534000"/>
            <a:chExt cx="9175680" cy="336600"/>
          </a:xfrm>
        </p:grpSpPr>
        <p:pic>
          <p:nvPicPr>
            <p:cNvPr id="107" name="Text Box 4" descr=""/>
            <p:cNvPicPr/>
            <p:nvPr/>
          </p:nvPicPr>
          <p:blipFill>
            <a:blip r:embed="rId6"/>
            <a:stretch/>
          </p:blipFill>
          <p:spPr>
            <a:xfrm>
              <a:off x="-19080" y="6534000"/>
              <a:ext cx="9175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55308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anklin Gothic Book"/>
                </a:rPr>
                <a:t>Meridian Mobile Pvt. Lt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D6C6-BF71-44C1-917A-AABF8F8201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Straight Connector 13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1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1655-5B7A-4F53-B418-2B6AEF2658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Straight Connector 13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5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6BDB-4332-4ABE-9E81-9DB774F7B9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426-1C89-4C40-AB2A-5A938E9DB36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13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80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09A-7995-40D9-9C24-6BC36E7410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2F48-F4BC-46FB-BCF1-A3C7C26424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C01-9A1F-4D9D-A6E6-A4839CA088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7.png"/><Relationship Id="rId9" Type="http://schemas.openxmlformats.org/officeDocument/2006/relationships/image" Target="../media/image23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jpe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png"/><Relationship Id="rId3" Type="http://schemas.openxmlformats.org/officeDocument/2006/relationships/image" Target="../media/image20.png"/><Relationship Id="rId4" Type="http://schemas.openxmlformats.org/officeDocument/2006/relationships/image" Target="../media/image32.png"/><Relationship Id="rId5" Type="http://schemas.openxmlformats.org/officeDocument/2006/relationships/image" Target="../media/image21.png"/><Relationship Id="rId6" Type="http://schemas.openxmlformats.org/officeDocument/2006/relationships/image" Target="../media/image33.jpeg"/><Relationship Id="rId7" Type="http://schemas.openxmlformats.org/officeDocument/2006/relationships/image" Target="../media/image22.png"/><Relationship Id="rId8" Type="http://schemas.openxmlformats.org/officeDocument/2006/relationships/image" Target="../media/image34.png"/><Relationship Id="rId9" Type="http://schemas.openxmlformats.org/officeDocument/2006/relationships/image" Target="../media/image7.png"/><Relationship Id="rId10" Type="http://schemas.openxmlformats.org/officeDocument/2006/relationships/image" Target="../media/image2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30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25.png"/><Relationship Id="rId19" Type="http://schemas.openxmlformats.org/officeDocument/2006/relationships/image" Target="../media/image39.png"/><Relationship Id="rId2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3.jpeg"/><Relationship Id="rId10" Type="http://schemas.openxmlformats.org/officeDocument/2006/relationships/image" Target="../media/image45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5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extBox 5" descr=""/>
          <p:cNvPicPr/>
          <p:nvPr/>
        </p:nvPicPr>
        <p:blipFill>
          <a:blip r:embed="rId1"/>
          <a:stretch/>
        </p:blipFill>
        <p:spPr>
          <a:xfrm>
            <a:off x="3041640" y="19080"/>
            <a:ext cx="2908440" cy="1017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C:\Users\Nikkhil\AppData\Local\Microsoft\Windows\Temporary Internet Files\Content.Outlook\183L301P\flaunt.tif"/>
          <p:cNvPicPr/>
          <p:nvPr/>
        </p:nvPicPr>
        <p:blipFill>
          <a:blip r:embed="rId3"/>
          <a:stretch/>
        </p:blipFill>
        <p:spPr>
          <a:xfrm>
            <a:off x="1371600" y="1905120"/>
            <a:ext cx="4419720" cy="33033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"/>
          <p:cNvSpPr/>
          <p:nvPr/>
        </p:nvSpPr>
        <p:spPr>
          <a:xfrm>
            <a:off x="5489280" y="982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Rectangle 7" descr=""/>
          <p:cNvPicPr/>
          <p:nvPr/>
        </p:nvPicPr>
        <p:blipFill>
          <a:blip r:embed="rId4"/>
          <a:stretch/>
        </p:blipFill>
        <p:spPr>
          <a:xfrm>
            <a:off x="5479920" y="2816280"/>
            <a:ext cx="344484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1600200" y="5638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A SUPER STYLISH  NEW AGE CEL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9" descr=""/>
          <p:cNvPicPr/>
          <p:nvPr/>
        </p:nvPicPr>
        <p:blipFill>
          <a:blip r:embed="rId5"/>
          <a:stretch/>
        </p:blipFill>
        <p:spPr>
          <a:xfrm>
            <a:off x="1316160" y="1096920"/>
            <a:ext cx="2921040" cy="665280"/>
          </a:xfrm>
          <a:prstGeom prst="rect">
            <a:avLst/>
          </a:prstGeom>
          <a:ln w="0">
            <a:noFill/>
          </a:ln>
        </p:spPr>
      </p:pic>
      <p:pic>
        <p:nvPicPr>
          <p:cNvPr id="413" name="Rectangle 10" descr=""/>
          <p:cNvPicPr/>
          <p:nvPr/>
        </p:nvPicPr>
        <p:blipFill>
          <a:blip r:embed="rId6"/>
          <a:stretch/>
        </p:blipFill>
        <p:spPr>
          <a:xfrm>
            <a:off x="3828960" y="1096920"/>
            <a:ext cx="2700360" cy="66528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11" descr=""/>
          <p:cNvPicPr/>
          <p:nvPr/>
        </p:nvPicPr>
        <p:blipFill>
          <a:blip r:embed="rId7"/>
          <a:stretch/>
        </p:blipFill>
        <p:spPr>
          <a:xfrm>
            <a:off x="6192720" y="1096920"/>
            <a:ext cx="1366920" cy="665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6"/>
          <p:cNvSpPr/>
          <p:nvPr/>
        </p:nvSpPr>
        <p:spPr>
          <a:xfrm>
            <a:off x="228600" y="87156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Contacts from Your SIM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lready have a SIM card, you can import the phone numbers you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on the SIM card into your device’s Address Book. First, make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ve inserted the SIM card with the contacts into your device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to the Jump screen. Scroll to highligh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ddress Bo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ress the trackb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 &gt; Import SIM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SIM Import dialog will alert you when the import is comp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1" descr="menu.jpg"/>
          <p:cNvPicPr/>
          <p:nvPr/>
        </p:nvPicPr>
        <p:blipFill>
          <a:blip r:embed="rId5"/>
          <a:stretch/>
        </p:blipFill>
        <p:spPr>
          <a:xfrm>
            <a:off x="2895480" y="342900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98" descr="jump.jpg"/>
          <p:cNvPicPr/>
          <p:nvPr/>
        </p:nvPicPr>
        <p:blipFill>
          <a:blip r:embed="rId6"/>
          <a:stretch/>
        </p:blipFill>
        <p:spPr>
          <a:xfrm>
            <a:off x="2832120" y="2548080"/>
            <a:ext cx="368280" cy="33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5"/>
          <p:cNvSpPr/>
          <p:nvPr/>
        </p:nvSpPr>
        <p:spPr>
          <a:xfrm>
            <a:off x="304920" y="304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e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"/>
          <p:cNvPicPr/>
          <p:nvPr/>
        </p:nvPicPr>
        <p:blipFill>
          <a:blip r:embed="rId3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4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" descr="C:\Users\Nikkhil\AppData\Local\Microsoft\Windows\Temporary Internet Files\Content.Outlook\183L301P\flaunt1.tif"/>
          <p:cNvPicPr/>
          <p:nvPr/>
        </p:nvPicPr>
        <p:blipFill>
          <a:blip r:embed="rId5"/>
          <a:stretch/>
        </p:blipFill>
        <p:spPr>
          <a:xfrm rot="15102600">
            <a:off x="-204480" y="2788560"/>
            <a:ext cx="3693960" cy="225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C:\Users\Nikkhil\AppData\Local\Microsoft\Windows\Temporary Internet Files\Content.Outlook\183L301P\flaunt.tif"/>
          <p:cNvPicPr/>
          <p:nvPr/>
        </p:nvPicPr>
        <p:blipFill>
          <a:blip r:embed="rId6"/>
          <a:stretch/>
        </p:blipFill>
        <p:spPr>
          <a:xfrm rot="20920800">
            <a:off x="4044600" y="1447560"/>
            <a:ext cx="3956040" cy="3429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"/>
          <p:cNvSpPr/>
          <p:nvPr/>
        </p:nvSpPr>
        <p:spPr>
          <a:xfrm>
            <a:off x="5029200" y="6183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in two colors (Black &amp; Pur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extBox 5" descr=""/>
          <p:cNvPicPr/>
          <p:nvPr/>
        </p:nvPicPr>
        <p:blipFill>
          <a:blip r:embed="rId1"/>
          <a:stretch/>
        </p:blipFill>
        <p:spPr>
          <a:xfrm>
            <a:off x="3041640" y="19080"/>
            <a:ext cx="2908440" cy="1017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C:\Users\Nikkhil\AppData\Local\Microsoft\Windows\Temporary Internet Files\Content.Outlook\183L301P\flaunt.tif"/>
          <p:cNvPicPr/>
          <p:nvPr/>
        </p:nvPicPr>
        <p:blipFill>
          <a:blip r:embed="rId3"/>
          <a:stretch/>
        </p:blipFill>
        <p:spPr>
          <a:xfrm>
            <a:off x="1371600" y="1905120"/>
            <a:ext cx="4419720" cy="3303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"/>
          <p:cNvSpPr/>
          <p:nvPr/>
        </p:nvSpPr>
        <p:spPr>
          <a:xfrm>
            <a:off x="5489280" y="982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Rectangle 7" descr=""/>
          <p:cNvPicPr/>
          <p:nvPr/>
        </p:nvPicPr>
        <p:blipFill>
          <a:blip r:embed="rId4"/>
          <a:stretch/>
        </p:blipFill>
        <p:spPr>
          <a:xfrm>
            <a:off x="5479920" y="2816280"/>
            <a:ext cx="344484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"/>
          <p:cNvSpPr/>
          <p:nvPr/>
        </p:nvSpPr>
        <p:spPr>
          <a:xfrm>
            <a:off x="1600200" y="5638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A SUPER STYLISH  NEW AGE CEL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angle 9" descr=""/>
          <p:cNvPicPr/>
          <p:nvPr/>
        </p:nvPicPr>
        <p:blipFill>
          <a:blip r:embed="rId5"/>
          <a:stretch/>
        </p:blipFill>
        <p:spPr>
          <a:xfrm>
            <a:off x="1316160" y="920880"/>
            <a:ext cx="2921040" cy="658800"/>
          </a:xfrm>
          <a:prstGeom prst="rect">
            <a:avLst/>
          </a:prstGeom>
          <a:ln w="0">
            <a:noFill/>
          </a:ln>
        </p:spPr>
      </p:pic>
      <p:pic>
        <p:nvPicPr>
          <p:cNvPr id="423" name="Rectangle 10" descr=""/>
          <p:cNvPicPr/>
          <p:nvPr/>
        </p:nvPicPr>
        <p:blipFill>
          <a:blip r:embed="rId6"/>
          <a:stretch/>
        </p:blipFill>
        <p:spPr>
          <a:xfrm>
            <a:off x="3828960" y="920880"/>
            <a:ext cx="2700360" cy="65880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11" descr=""/>
          <p:cNvPicPr/>
          <p:nvPr/>
        </p:nvPicPr>
        <p:blipFill>
          <a:blip r:embed="rId7"/>
          <a:stretch/>
        </p:blipFill>
        <p:spPr>
          <a:xfrm>
            <a:off x="6192720" y="920880"/>
            <a:ext cx="1366920" cy="658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8"/>
          <p:cNvGrpSpPr/>
          <p:nvPr/>
        </p:nvGrpSpPr>
        <p:grpSpPr>
          <a:xfrm>
            <a:off x="609480" y="1928880"/>
            <a:ext cx="2667240" cy="946440"/>
            <a:chOff x="609480" y="1928880"/>
            <a:chExt cx="2667240" cy="946440"/>
          </a:xfrm>
        </p:grpSpPr>
        <p:pic>
          <p:nvPicPr>
            <p:cNvPr id="426" name="Picture 7" descr="C:\Documents and Settings\rahul.shah\Desktop\display.JPG"/>
            <p:cNvPicPr/>
            <p:nvPr/>
          </p:nvPicPr>
          <p:blipFill>
            <a:blip r:embed="rId2"/>
            <a:srcRect l="0" t="0" r="73252" b="0"/>
            <a:stretch/>
          </p:blipFill>
          <p:spPr>
            <a:xfrm>
              <a:off x="609480" y="1981080"/>
              <a:ext cx="471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Box 117"/>
            <p:cNvSpPr/>
            <p:nvPr/>
          </p:nvSpPr>
          <p:spPr>
            <a:xfrm>
              <a:off x="1180800" y="1928880"/>
              <a:ext cx="209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reen: 3.2 inches , TFT,65K color, 854X480 Pix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9"/>
          <p:cNvGrpSpPr/>
          <p:nvPr/>
        </p:nvGrpSpPr>
        <p:grpSpPr>
          <a:xfrm>
            <a:off x="609480" y="3048120"/>
            <a:ext cx="2667240" cy="733320"/>
            <a:chOff x="609480" y="3048120"/>
            <a:chExt cx="2667240" cy="733320"/>
          </a:xfrm>
        </p:grpSpPr>
        <p:pic>
          <p:nvPicPr>
            <p:cNvPr id="429" name="Picture 21" descr=""/>
            <p:cNvPicPr/>
            <p:nvPr/>
          </p:nvPicPr>
          <p:blipFill>
            <a:blip r:embed="rId3"/>
            <a:srcRect l="0" t="0" r="58984" b="0"/>
            <a:stretch/>
          </p:blipFill>
          <p:spPr>
            <a:xfrm>
              <a:off x="609480" y="3087000"/>
              <a:ext cx="44856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TextBox 115"/>
            <p:cNvSpPr/>
            <p:nvPr/>
          </p:nvSpPr>
          <p:spPr>
            <a:xfrm>
              <a:off x="1088280" y="3048120"/>
              <a:ext cx="2188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3 MP, 2048 x 1536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Bookman Old Style"/>
                </a:rPr>
                <a:t>Auto Focus, LED Fla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50"/>
          <p:cNvGrpSpPr/>
          <p:nvPr/>
        </p:nvGrpSpPr>
        <p:grpSpPr>
          <a:xfrm>
            <a:off x="609480" y="4194000"/>
            <a:ext cx="2590920" cy="530280"/>
            <a:chOff x="609480" y="4194000"/>
            <a:chExt cx="2590920" cy="530280"/>
          </a:xfrm>
        </p:grpSpPr>
        <p:pic>
          <p:nvPicPr>
            <p:cNvPr id="432" name="Picture 14" descr=""/>
            <p:cNvPicPr/>
            <p:nvPr/>
          </p:nvPicPr>
          <p:blipFill>
            <a:blip r:embed="rId4"/>
            <a:srcRect l="0" t="0" r="59401" b="0"/>
            <a:stretch/>
          </p:blipFill>
          <p:spPr>
            <a:xfrm>
              <a:off x="609480" y="4269960"/>
              <a:ext cx="50004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Box 113"/>
            <p:cNvSpPr/>
            <p:nvPr/>
          </p:nvSpPr>
          <p:spPr>
            <a:xfrm>
              <a:off x="1142640" y="4194000"/>
              <a:ext cx="20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Video Record &amp; P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52"/>
          <p:cNvGrpSpPr/>
          <p:nvPr/>
        </p:nvGrpSpPr>
        <p:grpSpPr>
          <a:xfrm>
            <a:off x="609480" y="5257800"/>
            <a:ext cx="2666880" cy="533520"/>
            <a:chOff x="609480" y="5257800"/>
            <a:chExt cx="2666880" cy="533520"/>
          </a:xfrm>
        </p:grpSpPr>
        <p:pic>
          <p:nvPicPr>
            <p:cNvPr id="435" name="Picture 15" descr=""/>
            <p:cNvPicPr/>
            <p:nvPr/>
          </p:nvPicPr>
          <p:blipFill>
            <a:blip r:embed="rId5"/>
            <a:srcRect l="0" t="0" r="69935" b="0"/>
            <a:stretch/>
          </p:blipFill>
          <p:spPr>
            <a:xfrm>
              <a:off x="609480" y="5257800"/>
              <a:ext cx="4485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Box 107"/>
            <p:cNvSpPr/>
            <p:nvPr/>
          </p:nvSpPr>
          <p:spPr>
            <a:xfrm>
              <a:off x="1156320" y="5257800"/>
              <a:ext cx="212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SD Card up to 32 GB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1 GB Free with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Picture 9" descr=""/>
          <p:cNvPicPr/>
          <p:nvPr/>
        </p:nvPicPr>
        <p:blipFill>
          <a:blip r:embed="rId6"/>
          <a:srcRect l="0" t="0" r="64299" b="0"/>
          <a:stretch/>
        </p:blipFill>
        <p:spPr>
          <a:xfrm>
            <a:off x="3762360" y="2819520"/>
            <a:ext cx="504720" cy="4665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6"/>
          <p:cNvSpPr/>
          <p:nvPr/>
        </p:nvSpPr>
        <p:spPr>
          <a:xfrm>
            <a:off x="426708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leek Design Poc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7"/>
          <a:srcRect l="0" t="0" r="63977" b="0"/>
          <a:stretch/>
        </p:blipFill>
        <p:spPr>
          <a:xfrm>
            <a:off x="3747960" y="1957320"/>
            <a:ext cx="519120" cy="4827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5"/>
          <p:cNvSpPr/>
          <p:nvPr/>
        </p:nvSpPr>
        <p:spPr>
          <a:xfrm>
            <a:off x="4264200" y="1828800"/>
            <a:ext cx="244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2000 Multiple Entry Phonebook with Photo Call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0"/>
          <p:cNvSpPr/>
          <p:nvPr/>
        </p:nvSpPr>
        <p:spPr>
          <a:xfrm>
            <a:off x="4343400" y="3733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eo-ta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304920" y="304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8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9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"/>
          <p:cNvPicPr/>
          <p:nvPr/>
        </p:nvPicPr>
        <p:blipFill>
          <a:blip r:embed="rId10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1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47"/>
          <p:cNvGrpSpPr/>
          <p:nvPr/>
        </p:nvGrpSpPr>
        <p:grpSpPr>
          <a:xfrm>
            <a:off x="3733920" y="1066680"/>
            <a:ext cx="2895480" cy="654840"/>
            <a:chOff x="3733920" y="1066680"/>
            <a:chExt cx="2895480" cy="654840"/>
          </a:xfrm>
        </p:grpSpPr>
        <p:pic>
          <p:nvPicPr>
            <p:cNvPr id="450" name="Picture 6" descr=""/>
            <p:cNvPicPr/>
            <p:nvPr/>
          </p:nvPicPr>
          <p:blipFill>
            <a:blip r:embed="rId12"/>
            <a:srcRect l="0" t="0" r="57688" b="0"/>
            <a:stretch/>
          </p:blipFill>
          <p:spPr>
            <a:xfrm>
              <a:off x="3733920" y="1131840"/>
              <a:ext cx="573120" cy="4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Box 121"/>
            <p:cNvSpPr/>
            <p:nvPr/>
          </p:nvSpPr>
          <p:spPr>
            <a:xfrm>
              <a:off x="4267080" y="126252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G Network: 850/900/1800/1900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121"/>
            <p:cNvSpPr/>
            <p:nvPr/>
          </p:nvSpPr>
          <p:spPr>
            <a:xfrm>
              <a:off x="4267080" y="1066680"/>
              <a:ext cx="23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G Network: 1700/2100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9" descr="C:\Users\Nikkhil\AppData\Local\Microsoft\Windows\Temporary Internet Files\Content.Outlook\183L301P\flaunt.tif"/>
          <p:cNvPicPr/>
          <p:nvPr/>
        </p:nvPicPr>
        <p:blipFill>
          <a:blip r:embed="rId13"/>
          <a:stretch/>
        </p:blipFill>
        <p:spPr>
          <a:xfrm>
            <a:off x="6772320" y="2193840"/>
            <a:ext cx="1685880" cy="1463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2" descr=""/>
          <p:cNvPicPr/>
          <p:nvPr/>
        </p:nvPicPr>
        <p:blipFill>
          <a:blip r:embed="rId14"/>
          <a:stretch/>
        </p:blipFill>
        <p:spPr>
          <a:xfrm>
            <a:off x="380988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15"/>
          <a:stretch/>
        </p:blipFill>
        <p:spPr>
          <a:xfrm>
            <a:off x="3794040" y="5181480"/>
            <a:ext cx="549360" cy="5907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46"/>
          <p:cNvSpPr/>
          <p:nvPr/>
        </p:nvSpPr>
        <p:spPr>
          <a:xfrm>
            <a:off x="4419720" y="518148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up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Video streaming on the go with 3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7" descr="C:\Documents and Settings\admin\Desktop\Msm7201A-Qualcomm-CPU.jpg"/>
          <p:cNvPicPr/>
          <p:nvPr/>
        </p:nvPicPr>
        <p:blipFill>
          <a:blip r:embed="rId16"/>
          <a:stretch/>
        </p:blipFill>
        <p:spPr>
          <a:xfrm>
            <a:off x="609480" y="1066680"/>
            <a:ext cx="503280" cy="5400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3"/>
          <p:cNvSpPr/>
          <p:nvPr/>
        </p:nvSpPr>
        <p:spPr>
          <a:xfrm>
            <a:off x="1143000" y="1219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set  - MSM 720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TextBox 56" descr=""/>
          <p:cNvPicPr/>
          <p:nvPr/>
        </p:nvPicPr>
        <p:blipFill>
          <a:blip r:embed="rId17"/>
          <a:stretch/>
        </p:blipFill>
        <p:spPr>
          <a:xfrm>
            <a:off x="6626160" y="3664080"/>
            <a:ext cx="1994040" cy="688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8" descr="http://t1.gstatic.com/images?q=tbn:ANd9GcSpdiSF91wGWJq05Ql4MsqnykP1Rvobxfuiofk5ZFfBURiY-lFE"/>
          <p:cNvPicPr/>
          <p:nvPr/>
        </p:nvPicPr>
        <p:blipFill>
          <a:blip r:embed="rId18"/>
          <a:stretch/>
        </p:blipFill>
        <p:spPr>
          <a:xfrm>
            <a:off x="3733920" y="444348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"/>
          <p:cNvSpPr/>
          <p:nvPr/>
        </p:nvSpPr>
        <p:spPr>
          <a:xfrm>
            <a:off x="4191120" y="44956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Tri color Track B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51"/>
          <p:cNvGrpSpPr/>
          <p:nvPr/>
        </p:nvGrpSpPr>
        <p:grpSpPr>
          <a:xfrm>
            <a:off x="685800" y="1219320"/>
            <a:ext cx="2057400" cy="431640"/>
            <a:chOff x="685800" y="1219320"/>
            <a:chExt cx="2057400" cy="431640"/>
          </a:xfrm>
        </p:grpSpPr>
        <p:pic>
          <p:nvPicPr>
            <p:cNvPr id="463" name="Picture 6" descr="C:\Documents and Settings\rahul.shah\Desktop\ap.bmp"/>
            <p:cNvPicPr/>
            <p:nvPr/>
          </p:nvPicPr>
          <p:blipFill>
            <a:blip r:embed="rId2"/>
            <a:srcRect l="0" t="0" r="63315" b="0"/>
            <a:stretch/>
          </p:blipFill>
          <p:spPr>
            <a:xfrm>
              <a:off x="685800" y="1222200"/>
              <a:ext cx="4881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Box 111"/>
            <p:cNvSpPr/>
            <p:nvPr/>
          </p:nvSpPr>
          <p:spPr>
            <a:xfrm>
              <a:off x="1206360" y="1219320"/>
              <a:ext cx="15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Audio P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52"/>
          <p:cNvGrpSpPr/>
          <p:nvPr/>
        </p:nvGrpSpPr>
        <p:grpSpPr>
          <a:xfrm>
            <a:off x="685800" y="2057400"/>
            <a:ext cx="2895480" cy="520200"/>
            <a:chOff x="685800" y="2057400"/>
            <a:chExt cx="2895480" cy="520200"/>
          </a:xfrm>
        </p:grpSpPr>
        <p:pic>
          <p:nvPicPr>
            <p:cNvPr id="466" name="Picture 15" descr=""/>
            <p:cNvPicPr/>
            <p:nvPr/>
          </p:nvPicPr>
          <p:blipFill>
            <a:blip r:embed="rId3"/>
            <a:srcRect l="0" t="0" r="69935" b="0"/>
            <a:stretch/>
          </p:blipFill>
          <p:spPr>
            <a:xfrm>
              <a:off x="685800" y="2057400"/>
              <a:ext cx="487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Box 107"/>
            <p:cNvSpPr/>
            <p:nvPr/>
          </p:nvSpPr>
          <p:spPr>
            <a:xfrm>
              <a:off x="1279800" y="2057400"/>
              <a:ext cx="230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SD Card up to 32 GB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1 GB Free with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Picture 18" descr=""/>
          <p:cNvPicPr/>
          <p:nvPr/>
        </p:nvPicPr>
        <p:blipFill>
          <a:blip r:embed="rId4"/>
          <a:srcRect l="0" t="0" r="66405" b="0"/>
          <a:stretch/>
        </p:blipFill>
        <p:spPr>
          <a:xfrm>
            <a:off x="685800" y="3833640"/>
            <a:ext cx="511200" cy="4334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92"/>
          <p:cNvSpPr/>
          <p:nvPr/>
        </p:nvSpPr>
        <p:spPr>
          <a:xfrm>
            <a:off x="1295280" y="383364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-Ion 1250 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5"/>
          <a:srcRect l="0" t="0" r="64299" b="0"/>
          <a:stretch/>
        </p:blipFill>
        <p:spPr>
          <a:xfrm>
            <a:off x="714240" y="5424480"/>
            <a:ext cx="505080" cy="4665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86"/>
          <p:cNvSpPr/>
          <p:nvPr/>
        </p:nvSpPr>
        <p:spPr>
          <a:xfrm>
            <a:off x="1219320" y="52815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leek Design Poc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1"/>
          <p:cNvSpPr/>
          <p:nvPr/>
        </p:nvSpPr>
        <p:spPr>
          <a:xfrm>
            <a:off x="1295280" y="28195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tooth- V2.0 with A2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9" descr="C:\Documents and Settings\rahul.shah\Desktop\a2dpbt.JPG"/>
          <p:cNvPicPr/>
          <p:nvPr/>
        </p:nvPicPr>
        <p:blipFill>
          <a:blip r:embed="rId6"/>
          <a:stretch/>
        </p:blipFill>
        <p:spPr>
          <a:xfrm>
            <a:off x="685800" y="2860560"/>
            <a:ext cx="511200" cy="449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"/>
          <p:cNvPicPr/>
          <p:nvPr/>
        </p:nvPicPr>
        <p:blipFill>
          <a:blip r:embed="rId7"/>
          <a:srcRect l="0" t="0" r="63977" b="0"/>
          <a:stretch/>
        </p:blipFill>
        <p:spPr>
          <a:xfrm>
            <a:off x="685800" y="4672080"/>
            <a:ext cx="519120" cy="4824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5"/>
          <p:cNvSpPr/>
          <p:nvPr/>
        </p:nvSpPr>
        <p:spPr>
          <a:xfrm>
            <a:off x="1204920" y="4619520"/>
            <a:ext cx="244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2000 Multiple Entry Phonebook with Photo Call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8"/>
          <p:cNvSpPr/>
          <p:nvPr/>
        </p:nvSpPr>
        <p:spPr>
          <a:xfrm>
            <a:off x="4800600" y="3743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Downlink Speed– 7.2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Uplink Speed– 2.0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3" descr=""/>
          <p:cNvPicPr/>
          <p:nvPr/>
        </p:nvPicPr>
        <p:blipFill>
          <a:blip r:embed="rId8"/>
          <a:srcRect l="0" t="0" r="67087" b="0"/>
          <a:stretch/>
        </p:blipFill>
        <p:spPr>
          <a:xfrm>
            <a:off x="4267080" y="3733920"/>
            <a:ext cx="594000" cy="528480"/>
          </a:xfrm>
          <a:prstGeom prst="rect">
            <a:avLst/>
          </a:prstGeom>
          <a:ln w="0">
            <a:noFill/>
          </a:ln>
        </p:spPr>
      </p:pic>
      <p:sp>
        <p:nvSpPr>
          <p:cNvPr id="478" name="TextBox 5"/>
          <p:cNvSpPr/>
          <p:nvPr/>
        </p:nvSpPr>
        <p:spPr>
          <a:xfrm>
            <a:off x="304920" y="304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9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"/>
          <p:cNvPicPr/>
          <p:nvPr/>
        </p:nvPicPr>
        <p:blipFill>
          <a:blip r:embed="rId10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"/>
          <p:cNvPicPr/>
          <p:nvPr/>
        </p:nvPicPr>
        <p:blipFill>
          <a:blip r:embed="rId11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"/>
          <p:cNvPicPr/>
          <p:nvPr/>
        </p:nvPicPr>
        <p:blipFill>
          <a:blip r:embed="rId12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8" descr="http://t1.gstatic.com/images?q=tbn:ANd9GcSpdiSF91wGWJq05Ql4MsqnykP1Rvobxfuiofk5ZFfBURiY-lFE"/>
          <p:cNvPicPr/>
          <p:nvPr/>
        </p:nvPicPr>
        <p:blipFill>
          <a:blip r:embed="rId13"/>
          <a:stretch/>
        </p:blipFill>
        <p:spPr>
          <a:xfrm>
            <a:off x="4295880" y="11430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486" name="TextBox 3"/>
          <p:cNvSpPr/>
          <p:nvPr/>
        </p:nvSpPr>
        <p:spPr>
          <a:xfrm>
            <a:off x="4753080" y="106668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Track Ball Nav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4" descr=""/>
          <p:cNvPicPr/>
          <p:nvPr/>
        </p:nvPicPr>
        <p:blipFill>
          <a:blip r:embed="rId14"/>
          <a:stretch/>
        </p:blipFill>
        <p:spPr>
          <a:xfrm>
            <a:off x="4267080" y="2819520"/>
            <a:ext cx="524160" cy="5238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"/>
          <p:cNvSpPr/>
          <p:nvPr/>
        </p:nvSpPr>
        <p:spPr>
          <a:xfrm>
            <a:off x="4995720" y="2828880"/>
            <a:ext cx="18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Opera Mobile 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47"/>
          <p:cNvGrpSpPr/>
          <p:nvPr/>
        </p:nvGrpSpPr>
        <p:grpSpPr>
          <a:xfrm>
            <a:off x="4343400" y="4627440"/>
            <a:ext cx="609480" cy="884520"/>
            <a:chOff x="4343400" y="4627440"/>
            <a:chExt cx="609480" cy="884520"/>
          </a:xfrm>
        </p:grpSpPr>
        <p:pic>
          <p:nvPicPr>
            <p:cNvPr id="490" name="Picture 44" descr=""/>
            <p:cNvPicPr/>
            <p:nvPr/>
          </p:nvPicPr>
          <p:blipFill>
            <a:blip r:embed="rId15"/>
            <a:stretch/>
          </p:blipFill>
          <p:spPr>
            <a:xfrm>
              <a:off x="4343400" y="4627440"/>
              <a:ext cx="60948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43" descr="C:\Documents and Settings\admin\Desktop\Device ID and Planner\IMG_0453.jpg"/>
            <p:cNvPicPr/>
            <p:nvPr/>
          </p:nvPicPr>
          <p:blipFill>
            <a:blip r:embed="rId16"/>
            <a:stretch/>
          </p:blipFill>
          <p:spPr>
            <a:xfrm>
              <a:off x="4478760" y="4767840"/>
              <a:ext cx="358560" cy="74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TextBox 138"/>
          <p:cNvSpPr/>
          <p:nvPr/>
        </p:nvSpPr>
        <p:spPr>
          <a:xfrm>
            <a:off x="5105520" y="4597560"/>
            <a:ext cx="2438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lti-Tasking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G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Tex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sending and reciveing f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web surf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5" descr=""/>
          <p:cNvPicPr/>
          <p:nvPr/>
        </p:nvPicPr>
        <p:blipFill>
          <a:blip r:embed="rId17"/>
          <a:stretch/>
        </p:blipFill>
        <p:spPr>
          <a:xfrm>
            <a:off x="4267080" y="20383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494" name="TextBox 46"/>
          <p:cNvSpPr/>
          <p:nvPr/>
        </p:nvSpPr>
        <p:spPr>
          <a:xfrm>
            <a:off x="4876920" y="19810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3.5 mm Ear-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te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C:\Users\Nikkhil\AppData\Local\Microsoft\Windows\Temporary Internet Files\Content.Outlook\183L301P\flaunt.tif"/>
          <p:cNvPicPr/>
          <p:nvPr/>
        </p:nvPicPr>
        <p:blipFill>
          <a:blip r:embed="rId18"/>
          <a:stretch/>
        </p:blipFill>
        <p:spPr>
          <a:xfrm>
            <a:off x="7229520" y="593640"/>
            <a:ext cx="1685880" cy="1463760"/>
          </a:xfrm>
          <a:prstGeom prst="rect">
            <a:avLst/>
          </a:prstGeom>
          <a:ln w="0">
            <a:noFill/>
          </a:ln>
        </p:spPr>
      </p:pic>
      <p:pic>
        <p:nvPicPr>
          <p:cNvPr id="496" name="TextBox 55" descr=""/>
          <p:cNvPicPr/>
          <p:nvPr/>
        </p:nvPicPr>
        <p:blipFill>
          <a:blip r:embed="rId19"/>
          <a:stretch/>
        </p:blipFill>
        <p:spPr>
          <a:xfrm>
            <a:off x="7083360" y="2060640"/>
            <a:ext cx="1994040" cy="689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4"/>
          <p:cNvSpPr/>
          <p:nvPr/>
        </p:nvSpPr>
        <p:spPr>
          <a:xfrm>
            <a:off x="3613320" y="712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NIQU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http://www.doityourselfwebsite.ca/images/images/happyman.jpg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4"/>
          <p:cNvSpPr/>
          <p:nvPr/>
        </p:nvSpPr>
        <p:spPr>
          <a:xfrm>
            <a:off x="380880" y="517680"/>
            <a:ext cx="6400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Glob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8 MHz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Fast  operationa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cut keys for Cut, Copy and 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Easy to operate single short cut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Ports for Charger &amp; Ear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use both the  ports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tionary ( For 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error less SMS 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vorit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easy to go direct to Favo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recording as per requir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Can record Video on low &amp; high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S attachment – up to 2 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Heavy data can sen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st 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Dust proof key pad for long 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Player – REA L  STEREO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Real stereo 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Navigation Pa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 Two control p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2"/>
          <p:cNvSpPr/>
          <p:nvPr/>
        </p:nvSpPr>
        <p:spPr>
          <a:xfrm>
            <a:off x="3124080" y="87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VICE 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C:\Documents and Settings\admin\Desktop\Device ID and Planner\IMG_0453.jpg"/>
          <p:cNvPicPr/>
          <p:nvPr/>
        </p:nvPicPr>
        <p:blipFill>
          <a:blip r:embed="rId2"/>
          <a:stretch/>
        </p:blipFill>
        <p:spPr>
          <a:xfrm>
            <a:off x="1889280" y="1420920"/>
            <a:ext cx="5045040" cy="2484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8"/>
          <p:cNvSpPr/>
          <p:nvPr/>
        </p:nvSpPr>
        <p:spPr>
          <a:xfrm>
            <a:off x="380880" y="1066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7543800" y="106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57200" y="317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1"/>
          <p:cNvSpPr/>
          <p:nvPr/>
        </p:nvSpPr>
        <p:spPr>
          <a:xfrm>
            <a:off x="76201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2"/>
          <p:cNvSpPr/>
          <p:nvPr/>
        </p:nvSpPr>
        <p:spPr>
          <a:xfrm>
            <a:off x="7391520" y="2525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7620120" y="3021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76201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18"/>
          <p:cNvCxnSpPr/>
          <p:nvPr/>
        </p:nvCxnSpPr>
        <p:spPr>
          <a:xfrm flipH="1" flipV="1">
            <a:off x="1447200" y="1294560"/>
            <a:ext cx="686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0" name="Straight Arrow Connector 20"/>
          <p:cNvCxnSpPr/>
          <p:nvPr/>
        </p:nvCxnSpPr>
        <p:spPr>
          <a:xfrm flipH="1">
            <a:off x="1447200" y="3327480"/>
            <a:ext cx="533880" cy="259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1" name="TextBox 22"/>
          <p:cNvSpPr/>
          <p:nvPr/>
        </p:nvSpPr>
        <p:spPr>
          <a:xfrm>
            <a:off x="2438280" y="42670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open the display, press your left thumb on the lower-left corner of the display and gently push up in a clockwis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Straight Arrow Connector 28"/>
          <p:cNvCxnSpPr/>
          <p:nvPr/>
        </p:nvCxnSpPr>
        <p:spPr>
          <a:xfrm>
            <a:off x="6781320" y="2209320"/>
            <a:ext cx="686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33"/>
          <p:cNvCxnSpPr/>
          <p:nvPr/>
        </p:nvCxnSpPr>
        <p:spPr>
          <a:xfrm>
            <a:off x="6781320" y="3173040"/>
            <a:ext cx="762840" cy="27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TextBox 21"/>
          <p:cNvSpPr/>
          <p:nvPr/>
        </p:nvSpPr>
        <p:spPr>
          <a:xfrm>
            <a:off x="2286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23"/>
          <p:cNvCxnSpPr/>
          <p:nvPr/>
        </p:nvCxnSpPr>
        <p:spPr>
          <a:xfrm flipH="1">
            <a:off x="1447560" y="2334240"/>
            <a:ext cx="457920" cy="27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Straight Connector 31"/>
          <p:cNvSpPr/>
          <p:nvPr/>
        </p:nvSpPr>
        <p:spPr>
          <a:xfrm flipV="1">
            <a:off x="6705720" y="1219320"/>
            <a:ext cx="0" cy="5061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4"/>
          <p:cNvSpPr/>
          <p:nvPr/>
        </p:nvSpPr>
        <p:spPr>
          <a:xfrm flipV="1">
            <a:off x="6629400" y="3401640"/>
            <a:ext cx="0" cy="484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8"/>
          <p:cNvSpPr/>
          <p:nvPr/>
        </p:nvSpPr>
        <p:spPr>
          <a:xfrm flipV="1">
            <a:off x="2133720" y="1295280"/>
            <a:ext cx="0" cy="735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Straight Arrow Connector 35"/>
          <p:cNvCxnSpPr/>
          <p:nvPr/>
        </p:nvCxnSpPr>
        <p:spPr>
          <a:xfrm>
            <a:off x="6781680" y="2665440"/>
            <a:ext cx="61056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Straight Arrow Connector 47"/>
          <p:cNvCxnSpPr/>
          <p:nvPr/>
        </p:nvCxnSpPr>
        <p:spPr>
          <a:xfrm>
            <a:off x="6705720" y="1219320"/>
            <a:ext cx="76248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1" name="Straight Arrow Connector 54"/>
          <p:cNvCxnSpPr/>
          <p:nvPr/>
        </p:nvCxnSpPr>
        <p:spPr>
          <a:xfrm>
            <a:off x="6629400" y="3886200"/>
            <a:ext cx="91512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2" name="TextBox 64"/>
          <p:cNvSpPr/>
          <p:nvPr/>
        </p:nvSpPr>
        <p:spPr>
          <a:xfrm>
            <a:off x="228600" y="5486400"/>
            <a:ext cx="10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ha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5"/>
          <p:cNvSpPr/>
          <p:nvPr/>
        </p:nvSpPr>
        <p:spPr>
          <a:xfrm>
            <a:off x="1454400" y="5562720"/>
            <a:ext cx="11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Han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7"/>
          <p:cNvSpPr/>
          <p:nvPr/>
        </p:nvSpPr>
        <p:spPr>
          <a:xfrm>
            <a:off x="2524320" y="5562720"/>
            <a:ext cx="17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icroSD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8"/>
          <p:cNvSpPr/>
          <p:nvPr/>
        </p:nvSpPr>
        <p:spPr>
          <a:xfrm>
            <a:off x="4202280" y="5562720"/>
            <a:ext cx="22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tart Guide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9"/>
          <p:cNvSpPr/>
          <p:nvPr/>
        </p:nvSpPr>
        <p:spPr>
          <a:xfrm>
            <a:off x="3595680" y="60199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0"/>
          <p:cNvSpPr/>
          <p:nvPr/>
        </p:nvSpPr>
        <p:spPr>
          <a:xfrm>
            <a:off x="5041080" y="6019920"/>
            <a:ext cx="21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Protective Sle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1"/>
          <p:cNvSpPr/>
          <p:nvPr/>
        </p:nvSpPr>
        <p:spPr>
          <a:xfrm>
            <a:off x="6335640" y="5562720"/>
            <a:ext cx="19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tereo Hea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2"/>
          <p:cNvSpPr/>
          <p:nvPr/>
        </p:nvSpPr>
        <p:spPr>
          <a:xfrm>
            <a:off x="1537200" y="6019920"/>
            <a:ext cx="22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Battery &amp; Ch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ight Brace 73"/>
          <p:cNvSpPr/>
          <p:nvPr/>
        </p:nvSpPr>
        <p:spPr>
          <a:xfrm>
            <a:off x="121932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0160 h 990720"/>
              <a:gd name="textAreaBottom" fmla="*/ 970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6"/>
                  <a:pt x="10800" y="1412"/>
                </a:cubicBezTo>
                <a:lnTo>
                  <a:pt x="10800" y="9642"/>
                </a:lnTo>
                <a:cubicBezTo>
                  <a:pt x="10800" y="10348"/>
                  <a:pt x="16200" y="11054"/>
                  <a:pt x="21600" y="11054"/>
                </a:cubicBezTo>
                <a:cubicBezTo>
                  <a:pt x="16200" y="11054"/>
                  <a:pt x="10800" y="11760"/>
                  <a:pt x="10800" y="12466"/>
                </a:cubicBezTo>
                <a:lnTo>
                  <a:pt x="10800" y="20188"/>
                </a:lnTo>
                <a:cubicBezTo>
                  <a:pt x="10800" y="208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ight Brace 74"/>
          <p:cNvSpPr/>
          <p:nvPr/>
        </p:nvSpPr>
        <p:spPr>
          <a:xfrm>
            <a:off x="114300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0160 h 990720"/>
              <a:gd name="textAreaBottom" fmla="*/ 970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6"/>
                  <a:pt x="10800" y="1412"/>
                </a:cubicBezTo>
                <a:lnTo>
                  <a:pt x="10800" y="9642"/>
                </a:lnTo>
                <a:cubicBezTo>
                  <a:pt x="10800" y="10348"/>
                  <a:pt x="16200" y="11054"/>
                  <a:pt x="21600" y="11054"/>
                </a:cubicBezTo>
                <a:cubicBezTo>
                  <a:pt x="16200" y="11054"/>
                  <a:pt x="10800" y="11760"/>
                  <a:pt x="10800" y="12466"/>
                </a:cubicBezTo>
                <a:lnTo>
                  <a:pt x="10800" y="20188"/>
                </a:lnTo>
                <a:cubicBezTo>
                  <a:pt x="10800" y="2089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ight Arrow 75"/>
          <p:cNvSpPr/>
          <p:nvPr/>
        </p:nvSpPr>
        <p:spPr>
          <a:xfrm rot="16200000">
            <a:off x="2857320" y="3771720"/>
            <a:ext cx="30456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644e"/>
          </a:solidFill>
          <a:ln w="25560">
            <a:solidFill>
              <a:srgbClr val="784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5"/>
          <p:cNvSpPr/>
          <p:nvPr/>
        </p:nvSpPr>
        <p:spPr>
          <a:xfrm>
            <a:off x="76320" y="152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Q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38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30"/>
          <p:cNvGrpSpPr/>
          <p:nvPr/>
        </p:nvGrpSpPr>
        <p:grpSpPr>
          <a:xfrm>
            <a:off x="152280" y="609480"/>
            <a:ext cx="8991720" cy="6037560"/>
            <a:chOff x="152280" y="609480"/>
            <a:chExt cx="8991720" cy="6037560"/>
          </a:xfrm>
        </p:grpSpPr>
        <p:sp>
          <p:nvSpPr>
            <p:cNvPr id="540" name="TextBox 20"/>
            <p:cNvSpPr/>
            <p:nvPr/>
          </p:nvSpPr>
          <p:spPr>
            <a:xfrm>
              <a:off x="152280" y="609480"/>
              <a:ext cx="8991720" cy="60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PRS and MMS Settin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 : For GPRS setting go to the Network Options scree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U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   then selec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tings &gt; Network Opt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Select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Network AP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In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defin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elect your respective Operator n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Roll the trackball down and select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 AP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U      + DONE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MMS setting , Go to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ne Messag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Press JUMP        to go to the Jump screen. Scroll to highligh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n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Messag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press the trackball to open the second-level ring of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application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Highligh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media Messag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hen press the trackbal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U        + Settings&gt;Accoun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Select your respective Operato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setting (Prefix with “*”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U       + DONE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Picture 21" descr="menu.jpg"/>
            <p:cNvPicPr/>
            <p:nvPr/>
          </p:nvPicPr>
          <p:blipFill>
            <a:blip r:embed="rId5"/>
            <a:stretch/>
          </p:blipFill>
          <p:spPr>
            <a:xfrm>
              <a:off x="2771280" y="2819520"/>
              <a:ext cx="352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21" descr="menu.jpg"/>
            <p:cNvPicPr/>
            <p:nvPr/>
          </p:nvPicPr>
          <p:blipFill>
            <a:blip r:embed="rId6"/>
            <a:stretch/>
          </p:blipFill>
          <p:spPr>
            <a:xfrm>
              <a:off x="2771280" y="1752480"/>
              <a:ext cx="352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2" descr="done.jpg"/>
            <p:cNvPicPr/>
            <p:nvPr/>
          </p:nvPicPr>
          <p:blipFill>
            <a:blip r:embed="rId7"/>
            <a:stretch/>
          </p:blipFill>
          <p:spPr>
            <a:xfrm>
              <a:off x="4038480" y="2834640"/>
              <a:ext cx="380880" cy="2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2" descr="done.jpg"/>
            <p:cNvPicPr/>
            <p:nvPr/>
          </p:nvPicPr>
          <p:blipFill>
            <a:blip r:embed="rId8"/>
            <a:stretch/>
          </p:blipFill>
          <p:spPr>
            <a:xfrm>
              <a:off x="4114800" y="6188040"/>
              <a:ext cx="380880" cy="2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1" descr="menu.jpg"/>
            <p:cNvPicPr/>
            <p:nvPr/>
          </p:nvPicPr>
          <p:blipFill>
            <a:blip r:embed="rId9"/>
            <a:stretch/>
          </p:blipFill>
          <p:spPr>
            <a:xfrm>
              <a:off x="2771280" y="6172920"/>
              <a:ext cx="352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98" descr="jump.jpg"/>
            <p:cNvPicPr/>
            <p:nvPr/>
          </p:nvPicPr>
          <p:blipFill>
            <a:blip r:embed="rId10"/>
            <a:stretch/>
          </p:blipFill>
          <p:spPr>
            <a:xfrm>
              <a:off x="2755440" y="4162680"/>
              <a:ext cx="3682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21" descr="menu.jpg"/>
            <p:cNvPicPr/>
            <p:nvPr/>
          </p:nvPicPr>
          <p:blipFill>
            <a:blip r:embed="rId11"/>
            <a:stretch/>
          </p:blipFill>
          <p:spPr>
            <a:xfrm>
              <a:off x="2847240" y="5486760"/>
              <a:ext cx="3528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6"/>
          <p:cNvSpPr/>
          <p:nvPr/>
        </p:nvSpPr>
        <p:spPr>
          <a:xfrm>
            <a:off x="228600" y="6858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Your Phone Ring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import audio files as ringtones using “Import as Ringt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item. These will then be accessible in the Ringtone picke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ed” folder. Maximum file size is 1 MB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       to go to the Jump screen then scroll to highl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Ph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ess the trackball to open the Phon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     to open the Phone menu. Select Settings &gt;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ighligh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ing Call Ringtone pop-up menu then pr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ball. The menu reveals the ringtone categories. First highligh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, then press the trackball to open the ringtones submenu. As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through the songs, you can preview each song by hovering ove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few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en you have decided on a ringtone, press the trackball to selec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to assign the new ringtone and exit the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1" descr="menu.jpg"/>
          <p:cNvPicPr/>
          <p:nvPr/>
        </p:nvPicPr>
        <p:blipFill>
          <a:blip r:embed="rId5"/>
          <a:stretch/>
        </p:blipFill>
        <p:spPr>
          <a:xfrm>
            <a:off x="2819520" y="320040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98" descr="jump.jpg"/>
          <p:cNvPicPr/>
          <p:nvPr/>
        </p:nvPicPr>
        <p:blipFill>
          <a:blip r:embed="rId6"/>
          <a:stretch/>
        </p:blipFill>
        <p:spPr>
          <a:xfrm>
            <a:off x="2832120" y="2333520"/>
            <a:ext cx="368280" cy="33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6"/>
          <p:cNvSpPr/>
          <p:nvPr/>
        </p:nvSpPr>
        <p:spPr>
          <a:xfrm>
            <a:off x="228600" y="107964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Your Key  Guard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sign a photo as a key guard background imag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o go to the Jump screen, then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 &gt; Key Guard &amp;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ress the trackball with the Select Image pop-up highlighted.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to yo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 Albu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Memory Car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only selec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image from DCIM fold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lect the photo you want to use as the key guard backgrou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ing it then pressing the track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miss the Key Guard &amp; Security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1" descr="menu.jpg"/>
          <p:cNvPicPr/>
          <p:nvPr/>
        </p:nvPicPr>
        <p:blipFill>
          <a:blip r:embed="rId5"/>
          <a:stretch/>
        </p:blipFill>
        <p:spPr>
          <a:xfrm>
            <a:off x="7772400" y="222264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98" descr="jump.jpg"/>
          <p:cNvPicPr/>
          <p:nvPr/>
        </p:nvPicPr>
        <p:blipFill>
          <a:blip r:embed="rId6"/>
          <a:stretch/>
        </p:blipFill>
        <p:spPr>
          <a:xfrm>
            <a:off x="2832120" y="2193840"/>
            <a:ext cx="368280" cy="333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2" descr="done.jpg"/>
          <p:cNvPicPr/>
          <p:nvPr/>
        </p:nvPicPr>
        <p:blipFill>
          <a:blip r:embed="rId7"/>
          <a:stretch/>
        </p:blipFill>
        <p:spPr>
          <a:xfrm>
            <a:off x="2895480" y="4952880"/>
            <a:ext cx="381240" cy="289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4:29:03Z</dcterms:created>
  <dc:creator>satish</dc:creator>
  <dc:description/>
  <dc:language>en-US</dc:language>
  <cp:lastModifiedBy>Hari Airtyme</cp:lastModifiedBy>
  <dcterms:modified xsi:type="dcterms:W3CDTF">2011-08-04T17:16:14Z</dcterms:modified>
  <cp:revision>91</cp:revision>
  <dc:subject/>
  <dc:title>Slide 1</dc:title>
</cp:coreProperties>
</file>