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22200" y="696960"/>
            <a:ext cx="26146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463E-DEB0-4042-8D08-2231270767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C607-43C2-4342-BD36-BBBC5993EEB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122560" y="696960"/>
            <a:ext cx="261468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431-1204-4457-AC30-176D2BC3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1EB-D427-4219-8472-1BA0292F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DE8-5729-4C96-B6F0-B6480960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EA9-104E-47B9-B0C8-3A2BF071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393-FBDF-4972-B15B-9C1185F7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807-528D-4EAD-949E-D3482192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A86-FC37-49A4-885D-BC88F060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8B4-DF82-499C-97B9-8836137D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2D2-FA94-4FD2-92B0-736B7FB7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F2E-976E-4980-8AEE-D1ABEB49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C6F-EC4E-4F35-9F68-371E1CA5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E98-2E86-4EDE-B76F-4B8DD4FF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3C62-BDE8-4A7A-A005-2BA623A1D38D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5288040" y="8839080"/>
            <a:ext cx="1418400" cy="244800"/>
            <a:chOff x="5288040" y="8839080"/>
            <a:chExt cx="1418400" cy="244800"/>
          </a:xfrm>
        </p:grpSpPr>
        <p:sp>
          <p:nvSpPr>
            <p:cNvPr id="49" name="Rectangle 3"/>
            <p:cNvSpPr/>
            <p:nvPr/>
          </p:nvSpPr>
          <p:spPr>
            <a:xfrm>
              <a:off x="5424120" y="8839080"/>
              <a:ext cx="1282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Che"/>
                </a:rPr>
                <a:t>LG Electronics, Inc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5288040" y="8871120"/>
              <a:ext cx="203400" cy="205920"/>
              <a:chOff x="5288040" y="8871120"/>
              <a:chExt cx="203400" cy="205920"/>
            </a:xfrm>
          </p:grpSpPr>
          <p:sp>
            <p:nvSpPr>
              <p:cNvPr id="51" name="Freeform 5"/>
              <p:cNvSpPr/>
              <p:nvPr/>
            </p:nvSpPr>
            <p:spPr>
              <a:xfrm>
                <a:off x="5288040" y="8871120"/>
                <a:ext cx="203400" cy="205920"/>
              </a:xfrm>
              <a:prstGeom prst="pie">
                <a:avLst/>
              </a:prstGeom>
              <a:solidFill>
                <a:srgbClr val="cf0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>
                <a:off x="5386320" y="8927640"/>
                <a:ext cx="31320" cy="9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5345280" y="8927640"/>
                <a:ext cx="31320" cy="32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5306400" y="8888040"/>
                <a:ext cx="168120" cy="17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Rectangle 9"/>
          <p:cNvSpPr/>
          <p:nvPr/>
        </p:nvSpPr>
        <p:spPr>
          <a:xfrm>
            <a:off x="1633680" y="66600"/>
            <a:ext cx="356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GulimChe"/>
              </a:rPr>
              <a:t>Service Information Bullet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28040" y="716040"/>
            <a:ext cx="2192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NO OF ISSUE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B-101000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3807720" y="716040"/>
            <a:ext cx="143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Related ECO    : 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390600" y="1066680"/>
            <a:ext cx="616248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GulimCh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LG Model Name     : LG64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Date   : 0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ct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Buyer Model Name : LG64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Effective Serial No  : 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Buyer                      : India Open Marke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From : LGEI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Che"/>
              </a:rPr>
              <a:t>Subject                   : Initial Software LG6400                To     : All  BSM and ASC/AS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343080" y="990720"/>
            <a:ext cx="628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352440" y="7829640"/>
            <a:ext cx="615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352440" y="8286840"/>
            <a:ext cx="615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39840" y="539640"/>
            <a:ext cx="6289560" cy="82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0" y="3968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380880" y="2133720"/>
            <a:ext cx="617220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l Information: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ould like to release the initial software version LG640F04 for model LG640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ail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grade Process: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Annexure-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LGDPv1.3.9.10_for_Relian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zip and copy the LG6400 folder to C:\LG Electronics\LGDownload\Mod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2"/>
          <p:cNvSpPr/>
          <p:nvPr/>
        </p:nvSpPr>
        <p:spPr>
          <a:xfrm>
            <a:off x="352440" y="1905120"/>
            <a:ext cx="62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3278160" y="4668840"/>
            <a:ext cx="76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24"/>
          <p:cNvGrpSpPr/>
          <p:nvPr/>
        </p:nvGrpSpPr>
        <p:grpSpPr>
          <a:xfrm>
            <a:off x="352440" y="7829640"/>
            <a:ext cx="6218280" cy="923760"/>
            <a:chOff x="352440" y="7829640"/>
            <a:chExt cx="6218280" cy="923760"/>
          </a:xfrm>
        </p:grpSpPr>
        <p:sp>
          <p:nvSpPr>
            <p:cNvPr id="68" name="Line 14"/>
            <p:cNvSpPr/>
            <p:nvPr/>
          </p:nvSpPr>
          <p:spPr>
            <a:xfrm>
              <a:off x="352440" y="7829640"/>
              <a:ext cx="621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352440" y="8286840"/>
              <a:ext cx="621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38"/>
            <p:cNvSpPr/>
            <p:nvPr/>
          </p:nvSpPr>
          <p:spPr>
            <a:xfrm>
              <a:off x="3429360" y="783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41"/>
            <p:cNvSpPr/>
            <p:nvPr/>
          </p:nvSpPr>
          <p:spPr>
            <a:xfrm>
              <a:off x="5105880" y="8400960"/>
              <a:ext cx="1447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. Chandrasekhar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38"/>
            <p:cNvSpPr/>
            <p:nvPr/>
          </p:nvSpPr>
          <p:spPr>
            <a:xfrm>
              <a:off x="1828800" y="78296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8"/>
            <p:cNvSpPr/>
            <p:nvPr/>
          </p:nvSpPr>
          <p:spPr>
            <a:xfrm>
              <a:off x="4953240" y="783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9"/>
            <p:cNvSpPr/>
            <p:nvPr/>
          </p:nvSpPr>
          <p:spPr>
            <a:xfrm>
              <a:off x="1952640" y="8429760"/>
              <a:ext cx="1324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dan K Sharma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9"/>
            <p:cNvSpPr/>
            <p:nvPr/>
          </p:nvSpPr>
          <p:spPr>
            <a:xfrm>
              <a:off x="3381480" y="8420040"/>
              <a:ext cx="1419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arveen Bhardwaj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9"/>
            <p:cNvSpPr/>
            <p:nvPr/>
          </p:nvSpPr>
          <p:spPr>
            <a:xfrm>
              <a:off x="390240" y="8445600"/>
              <a:ext cx="1133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epak Raina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838080" y="2971800"/>
          <a:ext cx="3581640" cy="1022400"/>
        </p:xfrm>
        <a:graphic>
          <a:graphicData uri="http://schemas.openxmlformats.org/drawingml/2006/table">
            <a:tbl>
              <a:tblPr/>
              <a:tblGrid>
                <a:gridCol w="466920"/>
                <a:gridCol w="3114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G640F04_00.bi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G640F04_00.sc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G6400.dl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13:05Z</dcterms:created>
  <dc:creator>user</dc:creator>
  <dc:description/>
  <dc:language>en-US</dc:language>
  <cp:lastModifiedBy>madan </cp:lastModifiedBy>
  <cp:lastPrinted>2004-02-23T10:44:06Z</cp:lastPrinted>
  <dcterms:modified xsi:type="dcterms:W3CDTF">2010-10-06T09:46:31Z</dcterms:modified>
  <cp:revision>383</cp:revision>
  <dc:subject/>
  <dc:title>슬라이드 제목 없음</dc:title>
</cp:coreProperties>
</file>