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72AA-EFC0-464E-94CB-F07EBDF27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1889-9A04-4418-AF9E-E0E5F32F1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3B62-37DF-4160-BC48-9BB9D2A61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E844-4F8D-4460-ADFE-346935C3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6442-B5A4-460C-AE61-253D1F1D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513-25B3-47C9-85D7-D12BA0D7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7E0-D111-405A-AFE4-0807E545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B6E6-115C-4A04-AF8E-46E7160D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54D-4FB8-4C21-AFEC-38F00045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C79-1583-4CD8-9781-DCBD6043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326-055A-4E7E-9617-61104034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E8F-09E3-438D-92BD-05047F49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189-7C5F-4E39-9375-DF5E072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2F5-D57A-4DD3-888E-DDAC6329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3ED-1A51-4D86-AEF1-CC7ED3A5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4E2-0461-4950-815A-9BD8E45F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567-91EE-46E9-BCC9-44E10023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5CD-AA00-4EA6-B4E2-B7E71033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618-C7E7-4F30-86B2-B715996A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E9B-F62B-47F7-8F08-EB325E9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DAA9-DE8A-4296-9A05-2859D93A13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920" y="6523200"/>
            <a:ext cx="20851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Profitable Growth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돋움"/>
              </a:rPr>
              <a:t>B3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152840" y="6516720"/>
            <a:ext cx="26762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Number one to the custom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Breakthrough-3x"/>
          <p:cNvPicPr/>
          <p:nvPr/>
        </p:nvPicPr>
        <p:blipFill>
          <a:blip r:embed="rId1"/>
          <a:stretch/>
        </p:blipFill>
        <p:spPr>
          <a:xfrm>
            <a:off x="8726400" y="152280"/>
            <a:ext cx="1028880" cy="49536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>
            <a:off x="0" y="620640"/>
            <a:ext cx="8839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65960" y="2397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LG6400 Upgrade Gu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0" y="6494400"/>
            <a:ext cx="99280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TextBox 9"/>
          <p:cNvGrpSpPr/>
          <p:nvPr/>
        </p:nvGrpSpPr>
        <p:grpSpPr>
          <a:xfrm>
            <a:off x="195120" y="865080"/>
            <a:ext cx="4400640" cy="1994040"/>
            <a:chOff x="195120" y="865080"/>
            <a:chExt cx="4400640" cy="1994040"/>
          </a:xfrm>
        </p:grpSpPr>
        <p:pic>
          <p:nvPicPr>
            <p:cNvPr id="55" name="TextBox 9" descr=""/>
            <p:cNvPicPr/>
            <p:nvPr/>
          </p:nvPicPr>
          <p:blipFill>
            <a:blip r:embed="rId2"/>
            <a:stretch/>
          </p:blipFill>
          <p:spPr>
            <a:xfrm>
              <a:off x="195120" y="865080"/>
              <a:ext cx="44006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28600" y="896760"/>
              <a:ext cx="43434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Important Information &amp; Instructions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G6400  having QSC6020 Chip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ftware to be upgraded using  LGDPv1.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ftware to be upgraded in USB mode by using th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cro USB Cable SGDY0014302 OR BJAY00237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1"/>
          <p:cNvSpPr/>
          <p:nvPr/>
        </p:nvSpPr>
        <p:spPr>
          <a:xfrm>
            <a:off x="5434920" y="762120"/>
            <a:ext cx="2596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Upgrade Procedur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 Install LGDPv1.3.9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5424480" y="1600200"/>
            <a:ext cx="3719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Install  USB Modem 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GUSBModemDriver_WHQL_Eng_Ver_4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_All_Win7_LGEAll_CDMA.ex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ld USB Modem driver (LGUSBModemDriver_Eng_Ver_4.5.1.exe) will also support thi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IMG002.jpg"/>
          <p:cNvPicPr/>
          <p:nvPr/>
        </p:nvPicPr>
        <p:blipFill>
          <a:blip r:embed="rId3"/>
          <a:stretch/>
        </p:blipFill>
        <p:spPr>
          <a:xfrm>
            <a:off x="228600" y="3048120"/>
            <a:ext cx="4343400" cy="250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0" name="Text Box 46"/>
          <p:cNvSpPr/>
          <p:nvPr/>
        </p:nvSpPr>
        <p:spPr>
          <a:xfrm>
            <a:off x="228600" y="3048120"/>
            <a:ext cx="32767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Code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GDY0014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5468760" y="324468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heck USB Comport available for us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4"/>
          <a:srcRect l="0" t="0" r="59376" b="35559"/>
          <a:stretch/>
        </p:blipFill>
        <p:spPr>
          <a:xfrm>
            <a:off x="5638680" y="3581280"/>
            <a:ext cx="350532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5920" y="6523200"/>
            <a:ext cx="20851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Profitable Growth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돋움"/>
              </a:rPr>
              <a:t>B3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152840" y="6516720"/>
            <a:ext cx="26762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Number one to the custom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Breakthrough-3x"/>
          <p:cNvPicPr/>
          <p:nvPr/>
        </p:nvPicPr>
        <p:blipFill>
          <a:blip r:embed="rId1"/>
          <a:stretch/>
        </p:blipFill>
        <p:spPr>
          <a:xfrm>
            <a:off x="8726400" y="152280"/>
            <a:ext cx="1028880" cy="49536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>
            <a:off x="0" y="620640"/>
            <a:ext cx="8839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0" y="6494400"/>
            <a:ext cx="99280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04920" y="58672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33b7"/>
                </a:solidFill>
                <a:latin typeface="Arial"/>
              </a:rPr>
              <a:t>Select the Binary and Script file from C:\LG Electronics\LGDownload\Model\LG6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65960" y="2397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LG6400 Upgrade Gu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"/>
          <p:cNvPicPr/>
          <p:nvPr/>
        </p:nvPicPr>
        <p:blipFill>
          <a:blip r:embed="rId2"/>
          <a:srcRect l="0" t="0" r="0" b="3751"/>
          <a:stretch/>
        </p:blipFill>
        <p:spPr>
          <a:xfrm>
            <a:off x="533520" y="728640"/>
            <a:ext cx="8381880" cy="5043600"/>
          </a:xfrm>
          <a:prstGeom prst="rect">
            <a:avLst/>
          </a:prstGeom>
          <a:ln w="0">
            <a:noFill/>
          </a:ln>
        </p:spPr>
      </p:pic>
      <p:sp>
        <p:nvSpPr>
          <p:cNvPr id="71" name="Oval 13"/>
          <p:cNvSpPr/>
          <p:nvPr/>
        </p:nvSpPr>
        <p:spPr>
          <a:xfrm>
            <a:off x="1600200" y="2286000"/>
            <a:ext cx="6781680" cy="1219320"/>
          </a:xfrm>
          <a:prstGeom prst="ellipse">
            <a:avLst/>
          </a:prstGeom>
          <a:noFill/>
          <a:ln w="25560">
            <a:solidFill>
              <a:srgbClr val="0a0af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5920" y="6523200"/>
            <a:ext cx="20851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Profitable Growth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돋움"/>
              </a:rPr>
              <a:t>B3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152840" y="6516720"/>
            <a:ext cx="26762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Number one to the custom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reakthrough-3x"/>
          <p:cNvPicPr/>
          <p:nvPr/>
        </p:nvPicPr>
        <p:blipFill>
          <a:blip r:embed="rId1"/>
          <a:stretch/>
        </p:blipFill>
        <p:spPr>
          <a:xfrm>
            <a:off x="8726400" y="152280"/>
            <a:ext cx="1028880" cy="495360"/>
          </a:xfrm>
          <a:prstGeom prst="rect">
            <a:avLst/>
          </a:prstGeom>
          <a:ln w="0">
            <a:noFill/>
          </a:ln>
        </p:spPr>
      </p:pic>
      <p:sp>
        <p:nvSpPr>
          <p:cNvPr id="75" name="Line 6"/>
          <p:cNvSpPr/>
          <p:nvPr/>
        </p:nvSpPr>
        <p:spPr>
          <a:xfrm>
            <a:off x="0" y="620640"/>
            <a:ext cx="8839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0" y="6494400"/>
            <a:ext cx="99280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9864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33b7"/>
                </a:solidFill>
                <a:latin typeface="Arial"/>
              </a:rPr>
              <a:t>SPC  will be available on LG Mobiles site and can taken on the basis of MEID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65960" y="2397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LG6400 Upgrade Gu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6"/>
          <p:cNvSpPr/>
          <p:nvPr/>
        </p:nvSpPr>
        <p:spPr>
          <a:xfrm>
            <a:off x="4552920" y="2662200"/>
            <a:ext cx="1752480" cy="609480"/>
          </a:xfrm>
          <a:prstGeom prst="ellipse">
            <a:avLst/>
          </a:prstGeom>
          <a:noFill/>
          <a:ln cap="rnd" w="28440">
            <a:solidFill>
              <a:srgbClr val="0a0af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7" descr=""/>
          <p:cNvPicPr/>
          <p:nvPr/>
        </p:nvPicPr>
        <p:blipFill>
          <a:blip r:embed="rId2"/>
          <a:srcRect l="0" t="0" r="0" b="2962"/>
          <a:stretch/>
        </p:blipFill>
        <p:spPr>
          <a:xfrm>
            <a:off x="380880" y="723960"/>
            <a:ext cx="8605800" cy="5219640"/>
          </a:xfrm>
          <a:prstGeom prst="rect">
            <a:avLst/>
          </a:prstGeom>
          <a:ln w="0">
            <a:noFill/>
          </a:ln>
        </p:spPr>
      </p:pic>
      <p:sp>
        <p:nvSpPr>
          <p:cNvPr id="81" name="Oval 12"/>
          <p:cNvSpPr/>
          <p:nvPr/>
        </p:nvSpPr>
        <p:spPr>
          <a:xfrm>
            <a:off x="5022720" y="2840040"/>
            <a:ext cx="1295640" cy="457200"/>
          </a:xfrm>
          <a:prstGeom prst="ellipse">
            <a:avLst/>
          </a:prstGeom>
          <a:noFill/>
          <a:ln w="25560">
            <a:solidFill>
              <a:srgbClr val="0a0af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407280" y="2652840"/>
            <a:ext cx="796680" cy="360360"/>
          </a:xfrm>
          <a:prstGeom prst="ellipse">
            <a:avLst/>
          </a:prstGeom>
          <a:noFill/>
          <a:ln w="25560">
            <a:solidFill>
              <a:srgbClr val="0a0af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5920" y="6523200"/>
            <a:ext cx="20851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Profitable Growth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돋움"/>
              </a:rPr>
              <a:t>B3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152840" y="6516720"/>
            <a:ext cx="26762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Number one to the custom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Breakthrough-3x"/>
          <p:cNvPicPr/>
          <p:nvPr/>
        </p:nvPicPr>
        <p:blipFill>
          <a:blip r:embed="rId1"/>
          <a:stretch/>
        </p:blipFill>
        <p:spPr>
          <a:xfrm>
            <a:off x="8726400" y="152280"/>
            <a:ext cx="1028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Line 6"/>
          <p:cNvSpPr/>
          <p:nvPr/>
        </p:nvSpPr>
        <p:spPr>
          <a:xfrm>
            <a:off x="0" y="620640"/>
            <a:ext cx="8839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0" y="6494400"/>
            <a:ext cx="99280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65960" y="2397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LG6400 Upgrade Gu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rcRect l="0" t="0" r="0" b="3392"/>
          <a:stretch/>
        </p:blipFill>
        <p:spPr>
          <a:xfrm>
            <a:off x="503280" y="923760"/>
            <a:ext cx="856440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25920" y="6523200"/>
            <a:ext cx="20851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Profitable Growth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돋움"/>
              </a:rPr>
              <a:t>B3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152840" y="6516720"/>
            <a:ext cx="26762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Number one to the custom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Breakthrough-3x"/>
          <p:cNvPicPr/>
          <p:nvPr/>
        </p:nvPicPr>
        <p:blipFill>
          <a:blip r:embed="rId1"/>
          <a:stretch/>
        </p:blipFill>
        <p:spPr>
          <a:xfrm>
            <a:off x="8726400" y="152280"/>
            <a:ext cx="1028880" cy="49536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>
            <a:off x="0" y="620640"/>
            <a:ext cx="8839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65960" y="2397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LG6400 Upgrade Gu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0" y="6494400"/>
            <a:ext cx="99280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2"/>
          <a:srcRect l="0" t="0" r="0" b="3331"/>
          <a:stretch/>
        </p:blipFill>
        <p:spPr>
          <a:xfrm>
            <a:off x="380880" y="838080"/>
            <a:ext cx="89917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25920" y="6523200"/>
            <a:ext cx="20851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Profitable Growth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돋움"/>
              </a:rPr>
              <a:t>B3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152840" y="6516720"/>
            <a:ext cx="26762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Number one to the custom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Breakthrough-3x"/>
          <p:cNvPicPr/>
          <p:nvPr/>
        </p:nvPicPr>
        <p:blipFill>
          <a:blip r:embed="rId1"/>
          <a:stretch/>
        </p:blipFill>
        <p:spPr>
          <a:xfrm>
            <a:off x="8726400" y="152280"/>
            <a:ext cx="1028880" cy="495360"/>
          </a:xfrm>
          <a:prstGeom prst="rect">
            <a:avLst/>
          </a:prstGeom>
          <a:ln w="0">
            <a:noFill/>
          </a:ln>
        </p:spPr>
      </p:pic>
      <p:sp>
        <p:nvSpPr>
          <p:cNvPr id="100" name="Line 6"/>
          <p:cNvSpPr/>
          <p:nvPr/>
        </p:nvSpPr>
        <p:spPr>
          <a:xfrm>
            <a:off x="0" y="620640"/>
            <a:ext cx="8839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68840" y="23976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LG6400 Lock Code Reading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0" y="6494400"/>
            <a:ext cx="99280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rcRect l="0" t="0" r="15909" b="3638"/>
          <a:stretch/>
        </p:blipFill>
        <p:spPr>
          <a:xfrm>
            <a:off x="380880" y="1484280"/>
            <a:ext cx="4267440" cy="30560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0"/>
          <p:cNvSpPr/>
          <p:nvPr/>
        </p:nvSpPr>
        <p:spPr>
          <a:xfrm>
            <a:off x="406080" y="990720"/>
            <a:ext cx="45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 : Complete NV Edit by entering S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99240" y="488808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 : Exit from NV Edit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3"/>
          <a:srcRect l="0" t="0" r="0" b="3331"/>
          <a:stretch/>
        </p:blipFill>
        <p:spPr>
          <a:xfrm>
            <a:off x="4800600" y="1523880"/>
            <a:ext cx="491796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4"/>
          <p:cNvSpPr/>
          <p:nvPr/>
        </p:nvSpPr>
        <p:spPr>
          <a:xfrm>
            <a:off x="4894200" y="99072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3 : Click on LOCK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5816520" y="1689120"/>
            <a:ext cx="152640" cy="152280"/>
          </a:xfrm>
          <a:prstGeom prst="ellipse">
            <a:avLst/>
          </a:prstGeom>
          <a:noFill/>
          <a:ln w="25560">
            <a:solidFill>
              <a:srgbClr val="0a0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25920" y="6523200"/>
            <a:ext cx="20851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Profitable Growth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돋움"/>
              </a:rPr>
              <a:t>B3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152840" y="6516720"/>
            <a:ext cx="26762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Number one to the custom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Breakthrough-3x"/>
          <p:cNvPicPr/>
          <p:nvPr/>
        </p:nvPicPr>
        <p:blipFill>
          <a:blip r:embed="rId1"/>
          <a:stretch/>
        </p:blipFill>
        <p:spPr>
          <a:xfrm>
            <a:off x="8726400" y="152280"/>
            <a:ext cx="1028880" cy="49536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>
            <a:off x="0" y="620640"/>
            <a:ext cx="8839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71360" y="23976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LG6400 Multimedia File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0" y="6494400"/>
            <a:ext cx="99280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652320" y="114300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odel doesn’t scan Multimedia files automatically. So multimedia data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d on Micro SD Card in specific Folder as shown below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771480" y="1828800"/>
            <a:ext cx="7000920" cy="3809880"/>
            <a:chOff x="771480" y="1828800"/>
            <a:chExt cx="7000920" cy="3809880"/>
          </a:xfrm>
        </p:grpSpPr>
        <p:pic>
          <p:nvPicPr>
            <p:cNvPr id="117" name="Picture 2" descr=""/>
            <p:cNvPicPr/>
            <p:nvPr/>
          </p:nvPicPr>
          <p:blipFill>
            <a:blip r:embed="rId2"/>
            <a:srcRect l="19999" t="4446" r="18124" b="15559"/>
            <a:stretch/>
          </p:blipFill>
          <p:spPr>
            <a:xfrm>
              <a:off x="771480" y="1828800"/>
              <a:ext cx="70009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4"/>
            <p:cNvSpPr/>
            <p:nvPr/>
          </p:nvSpPr>
          <p:spPr>
            <a:xfrm>
              <a:off x="2980080" y="3945240"/>
              <a:ext cx="348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P3 files   =&gt; G:\USER\MP3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 files =&gt; G:\USER\IMAGE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deo files   =&gt;G:\USER\VIDEO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55Z</dcterms:created>
  <dc:creator>lgeil1</dc:creator>
  <dc:description/>
  <dc:language>en-US</dc:language>
  <cp:lastModifiedBy>madan </cp:lastModifiedBy>
  <dcterms:modified xsi:type="dcterms:W3CDTF">2010-10-06T09:26:50Z</dcterms:modified>
  <cp:revision>135</cp:revision>
  <dc:subject/>
  <dc:title>Slide 1</dc:title>
</cp:coreProperties>
</file>