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971-F8F7-4AB2-8A64-B48A1F74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85D-D0BF-4611-9008-5D9639D2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845-50DF-4A11-9D45-0369F0BD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246-E901-4D8D-8C6D-0A437594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93F-168C-4D21-956F-1D765B32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A76-7745-4AC1-9A8B-B61C3281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8D4-41C6-4A9C-BB47-4AF44D85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772-0036-4660-90C2-451B3E00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B60-13FD-4FDC-8933-BC367E02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5AB-67D4-4725-A1F3-E7051D08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E4D-4D94-4572-8839-CB801E52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D48-BAF3-40FA-ACA7-222161D7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CA7A-FFAB-45F6-B8DF-936028131F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3040" y="2581200"/>
            <a:ext cx="6019920" cy="34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914400"/>
            <a:ext cx="6295680" cy="80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7520" y="2606760"/>
            <a:ext cx="575280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版本公告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) BIN File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V23605_00.B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Compile date : 2006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－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09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－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) SCR File : CV236605_00 .SC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) DLL File : CV236.DLL(1.0.0.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更改事项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工程上裸板升级时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无法查找到摄像头时，自动重启的问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适用日期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  <a:ea typeface="굴림"/>
              </a:rPr>
              <a:t>29 Sep. 20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End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3360" y="152280"/>
            <a:ext cx="6305400" cy="876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8524800"/>
            <a:ext cx="1600200" cy="38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16280" y="6804000"/>
            <a:ext cx="304776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89000" y="900000"/>
            <a:ext cx="3048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ubin</cp:lastModifiedBy>
  <dcterms:modified xsi:type="dcterms:W3CDTF">2006-09-29T12:06:25Z</dcterms:modified>
  <cp:revision>17</cp:revision>
  <dc:subject/>
  <dc:title>PowerPoint Presentation</dc:title>
</cp:coreProperties>
</file>