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504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1C7-4CC4-4E9A-AFE6-497A2383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582912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25080"/>
            <a:ext cx="582912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CFE-B480-40D9-AA2F-E808E2C4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2508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2508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33D-0A5C-46EE-9217-851BAB75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4644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4644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2508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2508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25080"/>
            <a:ext cx="187668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DEE-298C-4CBC-A1BA-C8617F5F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46440"/>
            <a:ext cx="582912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9202-2BB7-47DF-8B38-1BE3C27C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582912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4E9-8F24-4A3C-9141-D2474F4D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DD8-F82E-4CA3-850F-B4224FB2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A4E-9FD9-43EF-BFC5-E3F26F27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44200"/>
            <a:ext cx="5829120" cy="73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055-9C93-4992-BA39-91B7F82E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2508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AA7F-4C84-4EEA-BC85-6846B0BD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2508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997-4065-4262-AFAF-73C0D763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46440"/>
            <a:ext cx="284436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25080"/>
            <a:ext cx="5829120" cy="27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D2F-7AC8-4EBE-9848-01C7B8BA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44200"/>
            <a:ext cx="58291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46440"/>
            <a:ext cx="5829120" cy="57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659800"/>
            <a:ext cx="14288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659800"/>
            <a:ext cx="21715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659800"/>
            <a:ext cx="14284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A8E4-A34E-4105-900A-231D0A9A22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3"/>
          <p:cNvSpPr/>
          <p:nvPr/>
        </p:nvSpPr>
        <p:spPr>
          <a:xfrm>
            <a:off x="345960" y="2397240"/>
            <a:ext cx="6166080" cy="38559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版本公告：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更改事项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修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Q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照相死机的问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ko-KR" sz="11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适用日期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7.07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End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5"/>
          <p:cNvSpPr/>
          <p:nvPr/>
        </p:nvSpPr>
        <p:spPr>
          <a:xfrm>
            <a:off x="165240" y="177840"/>
            <a:ext cx="6516720" cy="9072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71680" y="2822400"/>
          <a:ext cx="5700600" cy="1460520"/>
        </p:xfrm>
        <a:graphic>
          <a:graphicData uri="http://schemas.openxmlformats.org/drawingml/2006/table">
            <a:tbl>
              <a:tblPr/>
              <a:tblGrid>
                <a:gridCol w="1110960"/>
                <a:gridCol w="1333440"/>
                <a:gridCol w="1625760"/>
                <a:gridCol w="743040"/>
                <a:gridCol w="887400"/>
              </a:tblGrid>
              <a:tr h="244800">
                <a:tc rowSpan="3">
                  <a:txBody>
                    <a:bodyPr lIns="30240" rIns="30240" tIns="30240" bIns="302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166703_01.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24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ile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.06.28   09:11: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G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GD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166703_01.s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rowSpan="3">
                  <a:txBody>
                    <a:bodyPr lIns="30240" rIns="30240" tIns="30240" bIns="3024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166703_03.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iled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/07/13     09:11: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G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GDP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166703_03.sc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30240" rIns="30240" tIns="30240" bIns="3024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512640"/>
                          <a:tab algn="l" pos="1025640"/>
                          <a:tab algn="l" pos="1538280"/>
                          <a:tab algn="l" pos="2050920"/>
                          <a:tab algn="l" pos="2563920"/>
                          <a:tab algn="l" pos="3076560"/>
                          <a:tab algn="l" pos="3589200"/>
                          <a:tab algn="l" pos="4102200"/>
                          <a:tab algn="l" pos="4614840"/>
                          <a:tab algn="l" pos="5127480"/>
                          <a:tab algn="l" pos="5640480"/>
                          <a:tab algn="l" pos="6153120"/>
                          <a:tab algn="l" pos="6665760"/>
                          <a:tab algn="l" pos="7178760"/>
                          <a:tab algn="l" pos="7691400"/>
                          <a:tab algn="l" pos="8204040"/>
                          <a:tab algn="l" pos="8717040"/>
                          <a:tab algn="l" pos="9229680"/>
                          <a:tab algn="l" pos="9742320"/>
                          <a:tab algn="l" pos="10255320"/>
                        </a:tabLst>
                      </a:pPr>
                      <a:r>
                        <a:rPr b="1" lang="en-US" sz="12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0240" marR="3024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图片 71" descr="logo.gif"/>
          <p:cNvPicPr/>
          <p:nvPr/>
        </p:nvPicPr>
        <p:blipFill>
          <a:blip r:embed="rId1"/>
          <a:stretch/>
        </p:blipFill>
        <p:spPr>
          <a:xfrm>
            <a:off x="2071800" y="7396200"/>
            <a:ext cx="287640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2" descr="logo.gif"/>
          <p:cNvPicPr/>
          <p:nvPr/>
        </p:nvPicPr>
        <p:blipFill>
          <a:blip r:embed="rId2"/>
          <a:stretch/>
        </p:blipFill>
        <p:spPr>
          <a:xfrm>
            <a:off x="2000160" y="893880"/>
            <a:ext cx="2876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我爱LG手机论坛</cp:lastModifiedBy>
  <dcterms:modified xsi:type="dcterms:W3CDTF">2007-07-25T09:08:29Z</dcterms:modified>
  <cp:revision>72</cp:revision>
  <dc:subject/>
  <dc:title>PowerPoint Presentation</dc:title>
</cp:coreProperties>
</file>