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504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16F2-C90F-4AC6-8E93-52791651E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44200"/>
            <a:ext cx="58291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746440"/>
            <a:ext cx="5829120" cy="27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725080"/>
            <a:ext cx="5829120" cy="27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674B-22E7-4607-AE51-CCB634C6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44200"/>
            <a:ext cx="58291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746440"/>
            <a:ext cx="2844360" cy="27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746440"/>
            <a:ext cx="2844360" cy="27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725080"/>
            <a:ext cx="2844360" cy="27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725080"/>
            <a:ext cx="2844360" cy="27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E897-23A3-4598-A761-FE42DC27C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44200"/>
            <a:ext cx="58291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746440"/>
            <a:ext cx="1876680" cy="27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746440"/>
            <a:ext cx="1876680" cy="27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746440"/>
            <a:ext cx="1876680" cy="27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725080"/>
            <a:ext cx="1876680" cy="27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725080"/>
            <a:ext cx="1876680" cy="27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725080"/>
            <a:ext cx="1876680" cy="27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C22E-7437-4225-A2C4-B6483676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44200"/>
            <a:ext cx="58291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746440"/>
            <a:ext cx="582912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8738-4E05-4C5E-8ACE-65A324BA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44200"/>
            <a:ext cx="58291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746440"/>
            <a:ext cx="5829120" cy="57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394F-AF87-4CE3-9202-BB6E481D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44200"/>
            <a:ext cx="58291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746440"/>
            <a:ext cx="2844360" cy="57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746440"/>
            <a:ext cx="2844360" cy="57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75B7-B9D0-4ADD-86F2-720CA1AF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44200"/>
            <a:ext cx="58291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C215-6BD8-4378-86F0-4D672DD4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44200"/>
            <a:ext cx="5829120" cy="73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6993-C29E-4ADC-AB12-30B563A5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44200"/>
            <a:ext cx="58291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746440"/>
            <a:ext cx="2844360" cy="27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746440"/>
            <a:ext cx="2844360" cy="57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725080"/>
            <a:ext cx="2844360" cy="27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1425-85DE-402E-85CA-FA6E39B6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44200"/>
            <a:ext cx="58291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746440"/>
            <a:ext cx="2844360" cy="57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746440"/>
            <a:ext cx="2844360" cy="27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725080"/>
            <a:ext cx="2844360" cy="27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6947-69C6-45D8-8E3C-24337EDA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44200"/>
            <a:ext cx="58291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746440"/>
            <a:ext cx="2844360" cy="27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746440"/>
            <a:ext cx="2844360" cy="27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725080"/>
            <a:ext cx="5829120" cy="27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42F8-B713-46F5-955B-A173E1C0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44200"/>
            <a:ext cx="58291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746440"/>
            <a:ext cx="5829120" cy="57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659800"/>
            <a:ext cx="14288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659800"/>
            <a:ext cx="217152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659800"/>
            <a:ext cx="14284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4CD9-112A-45A3-85AE-AAAB02C709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3"/>
          <p:cNvSpPr/>
          <p:nvPr/>
        </p:nvSpPr>
        <p:spPr>
          <a:xfrm>
            <a:off x="345960" y="2397240"/>
            <a:ext cx="6166080" cy="485604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版本公告：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更改事项</a:t>
            </a: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- 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增加”锁网锁卡”版本</a:t>
            </a:r>
            <a:r>
              <a:rPr b="0" lang="en-US" sz="1100" spc="-1" strike="noStrike">
                <a:solidFill>
                  <a:srgbClr val="00cc99"/>
                </a:solidFill>
                <a:latin typeface="宋体"/>
              </a:rPr>
              <a:t>(</a:t>
            </a:r>
            <a:r>
              <a:rPr b="1" lang="en-US" sz="1100" spc="-1" strike="noStrike">
                <a:solidFill>
                  <a:srgbClr val="00cc99"/>
                </a:solidFill>
                <a:latin typeface="宋体"/>
              </a:rPr>
              <a:t>DLL</a:t>
            </a:r>
            <a:r>
              <a:rPr b="1" lang="zh-CN" sz="1100" spc="-1" strike="noStrike">
                <a:solidFill>
                  <a:srgbClr val="00cc99"/>
                </a:solidFill>
                <a:latin typeface="宋体"/>
              </a:rPr>
              <a:t>与之前版本不同</a:t>
            </a:r>
            <a:r>
              <a:rPr b="1" lang="en-US" sz="1100" spc="-1" strike="noStrike">
                <a:solidFill>
                  <a:srgbClr val="00cc99"/>
                </a:solidFill>
                <a:latin typeface="宋体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- 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锁网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锁定地方网络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只能使用当地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UIM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卡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锁卡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手机插入该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UIM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卡后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不能再使用其他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UIM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卡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- 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第一次插卡开机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锁定所插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UIM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卡所在地网络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第二次插入所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在地的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UIM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卡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锁定该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UIM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卡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如果第二次插入的卡不为锁定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地的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UIM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卡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会提示插入当地卡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此时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锁卡无效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或者按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***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159753,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可以进入工程模式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里面增加了修改锁定城市的代码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一经修改后，不能再次修改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工厂和售后可直接锁定城市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之后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不能再次修改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cc00"/>
                </a:solidFill>
                <a:latin typeface="宋体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- </a:t>
            </a:r>
            <a:r>
              <a:rPr b="0" lang="zh-CN" sz="1100" spc="-1" strike="noStrike">
                <a:solidFill>
                  <a:srgbClr val="00cc99"/>
                </a:solidFill>
                <a:latin typeface="宋体"/>
              </a:rPr>
              <a:t>适用于工厂出厂的锁网锁卡版本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ko-KR" sz="11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适用日期</a:t>
            </a: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2007.06.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-End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5"/>
          <p:cNvSpPr/>
          <p:nvPr/>
        </p:nvSpPr>
        <p:spPr>
          <a:xfrm>
            <a:off x="165240" y="177840"/>
            <a:ext cx="6516720" cy="90723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85880" y="2751120"/>
          <a:ext cx="3735360" cy="934920"/>
        </p:xfrm>
        <a:graphic>
          <a:graphicData uri="http://schemas.openxmlformats.org/drawingml/2006/table">
            <a:tbl>
              <a:tblPr/>
              <a:tblGrid>
                <a:gridCol w="650880"/>
                <a:gridCol w="635040"/>
                <a:gridCol w="1368360"/>
                <a:gridCol w="576360"/>
                <a:gridCol w="504720"/>
              </a:tblGrid>
              <a:tr h="280800">
                <a:tc rowSpan="3">
                  <a:txBody>
                    <a:bodyPr lIns="18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First ver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B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V116T02_00.b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D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cc00"/>
                          </a:solidFill>
                          <a:latin typeface="宋体"/>
                        </a:rPr>
                        <a:t>1.0.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45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54000" bIns="5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ompiled 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7.05.22 12:00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LG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LGD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45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54000" bIns="5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SC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V116T02_00.SC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Resul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18000" rIns="18000" tIns="54000" bIns="54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b2b2b2"/>
                          </a:solidFill>
                          <a:latin typeface="宋体"/>
                        </a:rPr>
                        <a:t>P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Picture 1911" descr=""/>
          <p:cNvPicPr/>
          <p:nvPr/>
        </p:nvPicPr>
        <p:blipFill>
          <a:blip r:embed="rId1"/>
          <a:srcRect l="40941" t="46014" r="11378" b="16149"/>
          <a:stretch/>
        </p:blipFill>
        <p:spPr>
          <a:xfrm>
            <a:off x="4654440" y="3816360"/>
            <a:ext cx="1511280" cy="100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912" descr=""/>
          <p:cNvPicPr/>
          <p:nvPr/>
        </p:nvPicPr>
        <p:blipFill>
          <a:blip r:embed="rId2"/>
          <a:srcRect l="38945" t="43189" r="7467" b="19000"/>
          <a:stretch/>
        </p:blipFill>
        <p:spPr>
          <a:xfrm>
            <a:off x="4653000" y="5616720"/>
            <a:ext cx="1584360" cy="1008000"/>
          </a:xfrm>
          <a:prstGeom prst="rect">
            <a:avLst/>
          </a:prstGeom>
          <a:ln w="0">
            <a:noFill/>
          </a:ln>
        </p:spPr>
      </p:pic>
      <p:sp>
        <p:nvSpPr>
          <p:cNvPr id="46" name="Oval 1913"/>
          <p:cNvSpPr/>
          <p:nvPr/>
        </p:nvSpPr>
        <p:spPr>
          <a:xfrm>
            <a:off x="5661000" y="4392720"/>
            <a:ext cx="504720" cy="288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914"/>
          <p:cNvSpPr/>
          <p:nvPr/>
        </p:nvSpPr>
        <p:spPr>
          <a:xfrm>
            <a:off x="5950080" y="4680000"/>
            <a:ext cx="0" cy="360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916"/>
          <p:cNvSpPr/>
          <p:nvPr/>
        </p:nvSpPr>
        <p:spPr>
          <a:xfrm>
            <a:off x="4940280" y="6697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  <a:ea typeface="Gulim"/>
              </a:rPr>
              <a:t>非锁网锁卡的手机标识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917"/>
          <p:cNvSpPr/>
          <p:nvPr/>
        </p:nvSpPr>
        <p:spPr>
          <a:xfrm>
            <a:off x="4653000" y="6774120"/>
            <a:ext cx="360360" cy="1677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Gulim"/>
              </a:rPr>
              <a:t>BU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Oval 1918"/>
          <p:cNvSpPr/>
          <p:nvPr/>
        </p:nvSpPr>
        <p:spPr>
          <a:xfrm>
            <a:off x="5445000" y="6121440"/>
            <a:ext cx="505080" cy="288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919"/>
          <p:cNvSpPr/>
          <p:nvPr/>
        </p:nvSpPr>
        <p:spPr>
          <a:xfrm>
            <a:off x="5734080" y="6408720"/>
            <a:ext cx="0" cy="360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920"/>
          <p:cNvSpPr/>
          <p:nvPr/>
        </p:nvSpPr>
        <p:spPr>
          <a:xfrm>
            <a:off x="5269320" y="4968720"/>
            <a:ext cx="93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  <a:ea typeface="Gulim"/>
              </a:rPr>
              <a:t>锁网锁卡的手机标识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921"/>
          <p:cNvSpPr/>
          <p:nvPr/>
        </p:nvSpPr>
        <p:spPr>
          <a:xfrm>
            <a:off x="4724280" y="5045400"/>
            <a:ext cx="360360" cy="1677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Gulim"/>
              </a:rPr>
              <a:t>BU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图片 65" descr="logo.gif"/>
          <p:cNvPicPr/>
          <p:nvPr/>
        </p:nvPicPr>
        <p:blipFill>
          <a:blip r:embed="rId3"/>
          <a:stretch/>
        </p:blipFill>
        <p:spPr>
          <a:xfrm>
            <a:off x="2071800" y="893880"/>
            <a:ext cx="2876400" cy="9525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66" descr="logo.gif"/>
          <p:cNvPicPr/>
          <p:nvPr/>
        </p:nvPicPr>
        <p:blipFill>
          <a:blip r:embed="rId4"/>
          <a:stretch/>
        </p:blipFill>
        <p:spPr>
          <a:xfrm>
            <a:off x="2143080" y="7753320"/>
            <a:ext cx="28767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我爱LG手机论坛</cp:lastModifiedBy>
  <dcterms:modified xsi:type="dcterms:W3CDTF">2007-06-25T13:13:17Z</dcterms:modified>
  <cp:revision>69</cp:revision>
  <dc:subject/>
  <dc:title>PowerPoint Presentation</dc:title>
</cp:coreProperties>
</file>