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055A-9B9F-442A-876B-A1FB84A0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BA7-4679-40D1-946D-B8637862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A510-756C-43DC-B236-9BDB5854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4243-E869-436C-BF54-CBBF84BA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5D67-42C5-424D-ABA2-CDDC520E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D6F-D464-4F56-B867-04870386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4AC-0921-4818-8105-A09EA6D3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3D5F-1A57-406F-B6D3-D75C362C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BF6F-2DAF-411B-9AC1-2FA3BAA5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775-0F44-4097-92D7-618215CA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363F-C7D0-4A5E-AE94-8239E37C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0061-EF29-4AB1-828F-F7228533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DC6E-9552-4B20-ABD6-711108C81BD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188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1000" y="41400"/>
            <a:ext cx="8982000" cy="67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440" y="41400"/>
            <a:ext cx="8979120" cy="67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09:04:58Z</dcterms:created>
  <dc:creator>administrator</dc:creator>
  <dc:description/>
  <dc:language>en-US</dc:language>
  <cp:lastModifiedBy>administrator</cp:lastModifiedBy>
  <dcterms:modified xsi:type="dcterms:W3CDTF">2002-10-25T09:05:52Z</dcterms:modified>
  <cp:revision>1</cp:revision>
  <dc:subject/>
  <dc:title>PowerPoint 프레젠테이션</dc:title>
</cp:coreProperties>
</file>