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8288000" cy="13716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1645884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7364520"/>
            <a:ext cx="1645884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736452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348120" y="736452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479280" y="320940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044160" y="320940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736452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6479280" y="736452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12044160" y="7364520"/>
            <a:ext cx="529956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3209400"/>
            <a:ext cx="1645884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1645884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547200"/>
            <a:ext cx="16458840" cy="10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736452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79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348120" y="736452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547200"/>
            <a:ext cx="16458840" cy="2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348120" y="3209400"/>
            <a:ext cx="803160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7364520"/>
            <a:ext cx="16458840" cy="37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523880"/>
                <a:tab algn="l" pos="3048120"/>
                <a:tab algn="l" pos="4572000"/>
                <a:tab algn="l" pos="6095880"/>
                <a:tab algn="l" pos="7620120"/>
                <a:tab algn="l" pos="9144000"/>
                <a:tab algn="l" pos="106678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77920" y="13200120"/>
            <a:ext cx="17819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275760" y="628560"/>
            <a:ext cx="14401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782200" y="13244400"/>
            <a:ext cx="69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078D-684B-44C4-8BD2-5106F13CF7BA}" type="slidenum"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91960" y="13307040"/>
            <a:ext cx="139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b2b2b2"/>
                </a:solidFill>
                <a:latin typeface="굴림"/>
              </a:rPr>
              <a:t>LGE (IC) Proprieta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617840" y="326880"/>
            <a:ext cx="227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굴림"/>
              </a:rPr>
              <a:t>(Information &amp; Communicatio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 rot="10800000">
          <a:off x="274680" y="323640"/>
          <a:ext cx="1514520" cy="27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274680" y="323640"/>
                    <a:ext cx="15145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16164000" y="1315800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002.07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[BD4000_MenuSpec.ppt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233000" y="2979720"/>
            <a:ext cx="10332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6240" y="2657520"/>
            <a:ext cx="137160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 SM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810960" y="2676600"/>
            <a:ext cx="1810080" cy="41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. WIRELESS WE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92040" y="2975040"/>
            <a:ext cx="74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025520" y="3166920"/>
            <a:ext cx="1582560" cy="35568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.1 Browser St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endCxn id="48" idx="1"/>
          </p:cNvCxnSpPr>
          <p:nvPr/>
        </p:nvCxnSpPr>
        <p:spPr>
          <a:xfrm flipH="1" flipV="1" rot="10800000">
            <a:off x="12916080" y="3089160"/>
            <a:ext cx="109800" cy="255960"/>
          </a:xfrm>
          <a:prstGeom prst="bentConnector3">
            <a:avLst>
              <a:gd name="adj1" fmla="val -107236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50" name=""/>
          <p:cNvSpPr/>
          <p:nvPr/>
        </p:nvSpPr>
        <p:spPr>
          <a:xfrm>
            <a:off x="2489040" y="2643120"/>
            <a:ext cx="1330560" cy="4129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. Outgoing C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36760" y="2246400"/>
            <a:ext cx="9216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89040" y="3129120"/>
            <a:ext cx="1330560" cy="41256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 Incoming C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9040" y="3614760"/>
            <a:ext cx="1330560" cy="41256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. Call Wai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89040" y="4100400"/>
            <a:ext cx="1330560" cy="4129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. Emergency C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1" idx="2"/>
            <a:endCxn id="50" idx="1"/>
          </p:cNvCxnSpPr>
          <p:nvPr/>
        </p:nvCxnSpPr>
        <p:spPr>
          <a:xfrm flipH="1" rot="16200000">
            <a:off x="2191320" y="2551680"/>
            <a:ext cx="489240" cy="106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51" idx="2"/>
            <a:endCxn id="52" idx="1"/>
          </p:cNvCxnSpPr>
          <p:nvPr/>
        </p:nvCxnSpPr>
        <p:spPr>
          <a:xfrm flipH="1" rot="16200000">
            <a:off x="1948320" y="2794680"/>
            <a:ext cx="975240" cy="106560"/>
          </a:xfrm>
          <a:prstGeom prst="bentConnector4">
            <a:avLst>
              <a:gd name="adj1" fmla="val 39401"/>
              <a:gd name="adj2" fmla="val -113559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51" idx="2"/>
            <a:endCxn id="53" idx="1"/>
          </p:cNvCxnSpPr>
          <p:nvPr/>
        </p:nvCxnSpPr>
        <p:spPr>
          <a:xfrm flipH="1" rot="16200000">
            <a:off x="1705680" y="3037320"/>
            <a:ext cx="1460880" cy="106560"/>
          </a:xfrm>
          <a:prstGeom prst="bentConnector4">
            <a:avLst>
              <a:gd name="adj1" fmla="val 42938"/>
              <a:gd name="adj2" fmla="val -113559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51" idx="2"/>
            <a:endCxn id="54" idx="1"/>
          </p:cNvCxnSpPr>
          <p:nvPr/>
        </p:nvCxnSpPr>
        <p:spPr>
          <a:xfrm flipH="1" rot="16200000">
            <a:off x="1462680" y="3280320"/>
            <a:ext cx="1946520" cy="106560"/>
          </a:xfrm>
          <a:prstGeom prst="bentConnector4">
            <a:avLst>
              <a:gd name="adj1" fmla="val 44691"/>
              <a:gd name="adj2" fmla="val -113559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59" name=""/>
          <p:cNvSpPr/>
          <p:nvPr/>
        </p:nvSpPr>
        <p:spPr>
          <a:xfrm>
            <a:off x="12816000" y="2071800"/>
            <a:ext cx="1793880" cy="342720"/>
          </a:xfrm>
          <a:prstGeom prst="rect">
            <a:avLst/>
          </a:prstGeom>
          <a:solidFill>
            <a:srgbClr val="ffe1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 Application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59" idx="2"/>
            <a:endCxn id="45" idx="0"/>
          </p:cNvCxnSpPr>
          <p:nvPr/>
        </p:nvCxnSpPr>
        <p:spPr>
          <a:xfrm rot="5400000">
            <a:off x="12195720" y="1140480"/>
            <a:ext cx="243360" cy="2791080"/>
          </a:xfrm>
          <a:prstGeom prst="bentConnector5">
            <a:avLst>
              <a:gd name="adj1" fmla="val 100444"/>
              <a:gd name="adj2" fmla="val 53779"/>
              <a:gd name="adj3" fmla="val 474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61" name=""/>
          <p:cNvSpPr/>
          <p:nvPr/>
        </p:nvSpPr>
        <p:spPr>
          <a:xfrm>
            <a:off x="6851520" y="1141560"/>
            <a:ext cx="2114640" cy="34272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G-BD4000 (DM3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61" idx="2"/>
            <a:endCxn id="59" idx="0"/>
          </p:cNvCxnSpPr>
          <p:nvPr/>
        </p:nvCxnSpPr>
        <p:spPr>
          <a:xfrm flipH="1" rot="16200000">
            <a:off x="10517040" y="-1123920"/>
            <a:ext cx="587880" cy="5804280"/>
          </a:xfrm>
          <a:prstGeom prst="bentConnector3">
            <a:avLst>
              <a:gd name="adj1" fmla="val 51102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63" name=""/>
          <p:cNvSpPr/>
          <p:nvPr/>
        </p:nvSpPr>
        <p:spPr>
          <a:xfrm>
            <a:off x="2489040" y="4586400"/>
            <a:ext cx="1330560" cy="41256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. Conference C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51" idx="2"/>
            <a:endCxn id="63" idx="1"/>
          </p:cNvCxnSpPr>
          <p:nvPr/>
        </p:nvCxnSpPr>
        <p:spPr>
          <a:xfrm flipH="1" rot="16200000">
            <a:off x="1219680" y="3523320"/>
            <a:ext cx="2432520" cy="106560"/>
          </a:xfrm>
          <a:prstGeom prst="bentConnector4">
            <a:avLst>
              <a:gd name="adj1" fmla="val 45751"/>
              <a:gd name="adj2" fmla="val -113559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13015800" y="3605040"/>
            <a:ext cx="1595520" cy="35568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3.2 Browser Ms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025520" y="4043520"/>
            <a:ext cx="1557360" cy="35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.3 Browser S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53360" y="2436840"/>
            <a:ext cx="889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/>
          <p:nvPr/>
        </p:nvCxnSpPr>
        <p:spPr>
          <a:xfrm flipH="1" rot="16200000">
            <a:off x="12632400" y="3409560"/>
            <a:ext cx="656280" cy="91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69" name=""/>
          <p:cNvCxnSpPr/>
          <p:nvPr/>
        </p:nvCxnSpPr>
        <p:spPr>
          <a:xfrm flipH="1" rot="16200000">
            <a:off x="12414600" y="3609000"/>
            <a:ext cx="1113120" cy="110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70" name=""/>
          <p:cNvSpPr/>
          <p:nvPr/>
        </p:nvSpPr>
        <p:spPr>
          <a:xfrm>
            <a:off x="15570360" y="2657520"/>
            <a:ext cx="1019160" cy="41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. OTA/AU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582960" y="2955960"/>
            <a:ext cx="74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739920" y="3147840"/>
            <a:ext cx="852480" cy="35568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.1 O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71" idx="2"/>
            <a:endCxn id="72" idx="1"/>
          </p:cNvCxnSpPr>
          <p:nvPr/>
        </p:nvCxnSpPr>
        <p:spPr>
          <a:xfrm flipH="1" rot="16200000">
            <a:off x="15552000" y="3137760"/>
            <a:ext cx="255960" cy="12024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74" name=""/>
          <p:cNvSpPr/>
          <p:nvPr/>
        </p:nvSpPr>
        <p:spPr>
          <a:xfrm>
            <a:off x="15739920" y="3605040"/>
            <a:ext cx="852480" cy="35568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.2 Au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71" idx="2"/>
            <a:endCxn id="74" idx="1"/>
          </p:cNvCxnSpPr>
          <p:nvPr/>
        </p:nvCxnSpPr>
        <p:spPr>
          <a:xfrm flipH="1" rot="16200000">
            <a:off x="15323400" y="3366360"/>
            <a:ext cx="713160" cy="120240"/>
          </a:xfrm>
          <a:prstGeom prst="bentConnector4">
            <a:avLst>
              <a:gd name="adj1" fmla="val 37525"/>
              <a:gd name="adj2" fmla="val -89189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76" name=""/>
          <p:cNvSpPr/>
          <p:nvPr/>
        </p:nvSpPr>
        <p:spPr>
          <a:xfrm>
            <a:off x="10385280" y="3179880"/>
            <a:ext cx="1225800" cy="29520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1 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385280" y="3925800"/>
            <a:ext cx="1225800" cy="30816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2.2 Send Ms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398240" y="6237360"/>
            <a:ext cx="1225440" cy="28404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3 Inbox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410840" y="7893000"/>
            <a:ext cx="1225440" cy="22536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4 Outbo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385280" y="9342360"/>
            <a:ext cx="1206720" cy="30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2.5 Erase Ms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endCxn id="76" idx="1"/>
          </p:cNvCxnSpPr>
          <p:nvPr/>
        </p:nvCxnSpPr>
        <p:spPr>
          <a:xfrm flipH="1" flipV="1" rot="10800000">
            <a:off x="10291680" y="3060360"/>
            <a:ext cx="93960" cy="267480"/>
          </a:xfrm>
          <a:prstGeom prst="bentConnector3">
            <a:avLst>
              <a:gd name="adj1" fmla="val -14269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82" name=""/>
          <p:cNvCxnSpPr>
            <a:endCxn id="77" idx="1"/>
          </p:cNvCxnSpPr>
          <p:nvPr/>
        </p:nvCxnSpPr>
        <p:spPr>
          <a:xfrm flipH="1" flipV="1" rot="10800000">
            <a:off x="10291680" y="3339720"/>
            <a:ext cx="93960" cy="740520"/>
          </a:xfrm>
          <a:prstGeom prst="bentConnector3">
            <a:avLst>
              <a:gd name="adj1" fmla="val -142692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83" name=""/>
          <p:cNvSpPr/>
          <p:nvPr/>
        </p:nvSpPr>
        <p:spPr>
          <a:xfrm>
            <a:off x="10655280" y="9731520"/>
            <a:ext cx="1101600" cy="24120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5.1 Erase Inbo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55280" y="10029960"/>
            <a:ext cx="1101600" cy="24120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5.2 Erase Outbo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55280" y="10331280"/>
            <a:ext cx="1101600" cy="24156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5.3 Erase 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/>
          <p:nvPr/>
        </p:nvCxnSpPr>
        <p:spPr>
          <a:xfrm>
            <a:off x="10605600" y="9651600"/>
            <a:ext cx="4356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87" name=""/>
          <p:cNvCxnSpPr/>
          <p:nvPr/>
        </p:nvCxnSpPr>
        <p:spPr>
          <a:xfrm flipH="1" flipV="1" rot="10800000">
            <a:off x="10635120" y="10155600"/>
            <a:ext cx="2520" cy="299160"/>
          </a:xfrm>
          <a:prstGeom prst="bentConnector3">
            <a:avLst>
              <a:gd name="adj1" fmla="val -260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 flipV="1">
            <a:off x="10596600" y="9666000"/>
            <a:ext cx="1440" cy="2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/>
          <p:nvPr/>
        </p:nvCxnSpPr>
        <p:spPr>
          <a:xfrm flipH="1" flipV="1" rot="10800000">
            <a:off x="10654920" y="9860400"/>
            <a:ext cx="2160" cy="299160"/>
          </a:xfrm>
          <a:prstGeom prst="bentConnector3">
            <a:avLst>
              <a:gd name="adj1" fmla="val -370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90" name=""/>
          <p:cNvSpPr/>
          <p:nvPr/>
        </p:nvSpPr>
        <p:spPr>
          <a:xfrm>
            <a:off x="10393200" y="10693440"/>
            <a:ext cx="116856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6 Set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38000" y="11091960"/>
            <a:ext cx="1101600" cy="24120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6.1 Ale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38000" y="11734920"/>
            <a:ext cx="1101600" cy="24120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6.2 2 Min Ale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38000" y="12036600"/>
            <a:ext cx="1101600" cy="24120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6.3 Default CB#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/>
          <p:nvPr/>
        </p:nvCxnSpPr>
        <p:spPr>
          <a:xfrm flipH="1" flipV="1" rot="10800000">
            <a:off x="10618560" y="11860560"/>
            <a:ext cx="2160" cy="299160"/>
          </a:xfrm>
          <a:prstGeom prst="bentConnector3">
            <a:avLst>
              <a:gd name="adj1" fmla="val -260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91" idx="1"/>
            <a:endCxn id="92" idx="1"/>
          </p:cNvCxnSpPr>
          <p:nvPr/>
        </p:nvCxnSpPr>
        <p:spPr>
          <a:xfrm rot="10800000">
            <a:off x="10638000" y="11212560"/>
            <a:ext cx="360" cy="643320"/>
          </a:xfrm>
          <a:prstGeom prst="bentConnector3">
            <a:avLst>
              <a:gd name="adj1" fmla="val -6300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 flipV="1">
            <a:off x="10577520" y="10965960"/>
            <a:ext cx="0" cy="29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38000" y="12341160"/>
            <a:ext cx="1101600" cy="24120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6.4 Auto Sa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38000" y="12636360"/>
            <a:ext cx="1101600" cy="24156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6.5 Auto Dele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/>
          <p:nvPr/>
        </p:nvCxnSpPr>
        <p:spPr>
          <a:xfrm flipH="1" flipV="1" rot="10800000">
            <a:off x="10618560" y="12156120"/>
            <a:ext cx="2160" cy="299160"/>
          </a:xfrm>
          <a:prstGeom prst="bentConnector3">
            <a:avLst>
              <a:gd name="adj1" fmla="val -260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0" name=""/>
          <p:cNvCxnSpPr/>
          <p:nvPr/>
        </p:nvCxnSpPr>
        <p:spPr>
          <a:xfrm flipH="1" flipV="1" rot="10800000">
            <a:off x="10618560" y="12451320"/>
            <a:ext cx="2160" cy="299160"/>
          </a:xfrm>
          <a:prstGeom prst="bentConnector3">
            <a:avLst>
              <a:gd name="adj1" fmla="val -260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7800840" y="2662200"/>
            <a:ext cx="164808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. DATA SERV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/>
          <p:nvPr/>
        </p:nvCxnSpPr>
        <p:spPr>
          <a:xfrm flipH="1" rot="16200000">
            <a:off x="7730280" y="3184920"/>
            <a:ext cx="270720" cy="691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3" name=""/>
          <p:cNvCxnSpPr/>
          <p:nvPr/>
        </p:nvCxnSpPr>
        <p:spPr>
          <a:xfrm flipH="1" rot="16200000">
            <a:off x="7489080" y="3426120"/>
            <a:ext cx="753120" cy="691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4" name=""/>
          <p:cNvCxnSpPr/>
          <p:nvPr/>
        </p:nvCxnSpPr>
        <p:spPr>
          <a:xfrm flipH="1" flipV="1" rot="10800000">
            <a:off x="7888680" y="3353400"/>
            <a:ext cx="2520" cy="959400"/>
          </a:xfrm>
          <a:prstGeom prst="bentConnector3">
            <a:avLst>
              <a:gd name="adj1" fmla="val -360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7889760" y="3152880"/>
            <a:ext cx="1549440" cy="40320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.1 Circuit Data Serv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89760" y="3635280"/>
            <a:ext cx="1538280" cy="40320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.2 Packet Data Servic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99480" y="4140360"/>
            <a:ext cx="1538280" cy="40320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.3 QN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295160" y="4500720"/>
            <a:ext cx="1279800" cy="24120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.3.1 Promp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352400" y="6238800"/>
            <a:ext cx="1279440" cy="24120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.3.2 Alert Sou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8" idx="1"/>
            <a:endCxn id="109" idx="1"/>
          </p:cNvCxnSpPr>
          <p:nvPr/>
        </p:nvCxnSpPr>
        <p:spPr>
          <a:xfrm flipH="1" flipV="1" rot="10800000">
            <a:off x="13294800" y="4621320"/>
            <a:ext cx="57600" cy="1738440"/>
          </a:xfrm>
          <a:prstGeom prst="bentConnector3">
            <a:avLst>
              <a:gd name="adj1" fmla="val -396855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 flipV="1">
            <a:off x="13136400" y="4413240"/>
            <a:ext cx="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52040" y="3576600"/>
            <a:ext cx="1224000" cy="236520"/>
          </a:xfrm>
          <a:prstGeom prst="foldedCorner">
            <a:avLst>
              <a:gd name="adj" fmla="val 15814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. Max. 99 Ind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3200" y="4335480"/>
            <a:ext cx="1960560" cy="260280"/>
          </a:xfrm>
          <a:prstGeom prst="foldedCorner">
            <a:avLst>
              <a:gd name="adj" fmla="val 15814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1. Max. 163(dest adds + user data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52040" y="4678200"/>
            <a:ext cx="1224000" cy="236880"/>
          </a:xfrm>
          <a:prstGeom prst="foldedCorner">
            <a:avLst>
              <a:gd name="adj" fmla="val 15814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 Multi addr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440" y="6602400"/>
            <a:ext cx="1224000" cy="236520"/>
          </a:xfrm>
          <a:prstGeom prst="foldedCorner">
            <a:avLst>
              <a:gd name="adj" fmla="val 15814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1. Max. 29 Msg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88760" y="8197920"/>
            <a:ext cx="1224000" cy="236520"/>
          </a:xfrm>
          <a:prstGeom prst="foldedCorner">
            <a:avLst>
              <a:gd name="adj" fmla="val 15814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1. Max. 30 Msg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3200" y="5022720"/>
            <a:ext cx="1224000" cy="236520"/>
          </a:xfrm>
          <a:prstGeom prst="foldedCorner">
            <a:avLst>
              <a:gd name="adj" fmla="val 15814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3. Canned Msgs.(3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74360" y="5378400"/>
            <a:ext cx="1222200" cy="909720"/>
          </a:xfrm>
          <a:prstGeom prst="foldedCorner">
            <a:avLst>
              <a:gd name="adj" fmla="val 15814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4. Op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- Call Back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- Prior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ko-KR" sz="900" spc="-1" strike="noStrike">
                <a:solidFill>
                  <a:srgbClr val="919191"/>
                </a:solidFill>
                <a:latin typeface="Arial"/>
              </a:rPr>
              <a:t>Defer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919191"/>
                </a:solidFill>
                <a:latin typeface="Arial"/>
              </a:rPr>
              <a:t>   </a:t>
            </a:r>
            <a:r>
              <a:rPr b="1" lang="ko-KR" sz="900" spc="-1" strike="noStrike">
                <a:solidFill>
                  <a:srgbClr val="919191"/>
                </a:solidFill>
                <a:latin typeface="Arial"/>
              </a:rPr>
              <a:t>- Valid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- Delivery A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291680" y="4075200"/>
            <a:ext cx="1800" cy="48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291680" y="6367320"/>
            <a:ext cx="1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304640" y="10787040"/>
            <a:ext cx="9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536120" y="3468600"/>
            <a:ext cx="108000" cy="238320"/>
          </a:xfrm>
          <a:custGeom>
            <a:avLst/>
            <a:gdLst/>
            <a:ahLst/>
            <a:rect l="l" t="t" r="r" b="b"/>
            <a:pathLst>
              <a:path w="68" h="150">
                <a:moveTo>
                  <a:pt x="0" y="0"/>
                </a:moveTo>
                <a:lnTo>
                  <a:pt x="0" y="150"/>
                </a:lnTo>
                <a:lnTo>
                  <a:pt x="68" y="15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526760" y="4229280"/>
            <a:ext cx="129960" cy="1271520"/>
          </a:xfrm>
          <a:custGeom>
            <a:avLst/>
            <a:gdLst/>
            <a:ahLst/>
            <a:rect l="l" t="t" r="r" b="b"/>
            <a:pathLst>
              <a:path w="82" h="801">
                <a:moveTo>
                  <a:pt x="0" y="0"/>
                </a:moveTo>
                <a:lnTo>
                  <a:pt x="0" y="801"/>
                </a:lnTo>
                <a:lnTo>
                  <a:pt x="82" y="80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526760" y="4406760"/>
            <a:ext cx="9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526760" y="477504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526760" y="511956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537920" y="8109000"/>
            <a:ext cx="142920" cy="156960"/>
          </a:xfrm>
          <a:custGeom>
            <a:avLst/>
            <a:gdLst/>
            <a:ahLst/>
            <a:rect l="l" t="t" r="r" b="b"/>
            <a:pathLst>
              <a:path w="68" h="150">
                <a:moveTo>
                  <a:pt x="0" y="0"/>
                </a:moveTo>
                <a:lnTo>
                  <a:pt x="0" y="150"/>
                </a:lnTo>
                <a:lnTo>
                  <a:pt x="68" y="15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572840" y="6708600"/>
            <a:ext cx="9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304640" y="7994520"/>
            <a:ext cx="9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561920" y="4803840"/>
            <a:ext cx="1224000" cy="236520"/>
          </a:xfrm>
          <a:prstGeom prst="foldedCorner">
            <a:avLst>
              <a:gd name="adj" fmla="val 15814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. To star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573080" y="5181480"/>
            <a:ext cx="1224000" cy="236520"/>
          </a:xfrm>
          <a:prstGeom prst="foldedCorner">
            <a:avLst>
              <a:gd name="adj" fmla="val 15814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 Bo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582800" y="5537160"/>
            <a:ext cx="1223640" cy="236520"/>
          </a:xfrm>
          <a:prstGeom prst="foldedCorner">
            <a:avLst>
              <a:gd name="adj" fmla="val 15814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. To 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585680" y="5881680"/>
            <a:ext cx="1224000" cy="236520"/>
          </a:xfrm>
          <a:prstGeom prst="foldedCorner">
            <a:avLst>
              <a:gd name="adj" fmla="val 15814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. N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441320" y="4749840"/>
            <a:ext cx="0" cy="123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441320" y="4916520"/>
            <a:ext cx="1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439880" y="5292720"/>
            <a:ext cx="10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449240" y="5611680"/>
            <a:ext cx="1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449240" y="5989680"/>
            <a:ext cx="1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592160" y="6578640"/>
            <a:ext cx="1224000" cy="236520"/>
          </a:xfrm>
          <a:prstGeom prst="foldedCorner">
            <a:avLst>
              <a:gd name="adj" fmla="val 15814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. 2 Aler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601880" y="6934320"/>
            <a:ext cx="1223640" cy="236520"/>
          </a:xfrm>
          <a:prstGeom prst="foldedCorner">
            <a:avLst>
              <a:gd name="adj" fmla="val 15814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 4 Aler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604760" y="7278840"/>
            <a:ext cx="1224000" cy="236520"/>
          </a:xfrm>
          <a:prstGeom prst="foldedCorner">
            <a:avLst>
              <a:gd name="adj" fmla="val 15814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. Mu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469760" y="6689880"/>
            <a:ext cx="1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479480" y="7008840"/>
            <a:ext cx="10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479480" y="7386480"/>
            <a:ext cx="10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452480" y="6483240"/>
            <a:ext cx="0" cy="90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812600" y="11334600"/>
            <a:ext cx="118800" cy="177840"/>
          </a:xfrm>
          <a:custGeom>
            <a:avLst/>
            <a:gdLst/>
            <a:ahLst/>
            <a:rect l="l" t="t" r="r" b="b"/>
            <a:pathLst>
              <a:path w="75" h="112">
                <a:moveTo>
                  <a:pt x="0" y="0"/>
                </a:moveTo>
                <a:lnTo>
                  <a:pt x="0" y="112"/>
                </a:lnTo>
                <a:lnTo>
                  <a:pt x="75" y="1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960200" y="11420640"/>
            <a:ext cx="1674720" cy="249120"/>
          </a:xfrm>
          <a:prstGeom prst="foldedCorner">
            <a:avLst>
              <a:gd name="adj" fmla="val 15814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Alerts/4Alerts/Vibrate/Lam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288440" y="9475920"/>
            <a:ext cx="9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0291680" y="8872560"/>
            <a:ext cx="0" cy="19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564920" y="65214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580760" y="7072200"/>
            <a:ext cx="9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96680" y="6919920"/>
            <a:ext cx="1222200" cy="865080"/>
          </a:xfrm>
          <a:prstGeom prst="foldedCorner">
            <a:avLst>
              <a:gd name="adj" fmla="val 15814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 Op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 Rep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 Forw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 Er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 Save addr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 Prot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94880" y="8569440"/>
            <a:ext cx="1222560" cy="603000"/>
          </a:xfrm>
          <a:prstGeom prst="foldedCorner">
            <a:avLst>
              <a:gd name="adj" fmla="val 15814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 Op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 Res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 Er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 Prot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541160" y="828216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541160" y="8685360"/>
            <a:ext cx="15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01" idx="0"/>
            <a:endCxn id="59" idx="2"/>
          </p:cNvCxnSpPr>
          <p:nvPr/>
        </p:nvCxnSpPr>
        <p:spPr>
          <a:xfrm flipH="1" flipV="1" rot="5400000">
            <a:off x="11044800" y="-5400"/>
            <a:ext cx="248040" cy="5088240"/>
          </a:xfrm>
          <a:prstGeom prst="bentConnector5">
            <a:avLst>
              <a:gd name="adj1" fmla="val 93604"/>
              <a:gd name="adj2" fmla="val 49281"/>
              <a:gd name="adj3" fmla="val 145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7" name=""/>
          <p:cNvCxnSpPr>
            <a:stCxn id="70" idx="0"/>
            <a:endCxn id="59" idx="2"/>
          </p:cNvCxnSpPr>
          <p:nvPr/>
        </p:nvCxnSpPr>
        <p:spPr>
          <a:xfrm flipV="1" rot="16200000">
            <a:off x="14774760" y="1352160"/>
            <a:ext cx="243360" cy="2367360"/>
          </a:xfrm>
          <a:prstGeom prst="bentConnector5">
            <a:avLst>
              <a:gd name="adj1" fmla="val 95259"/>
              <a:gd name="adj2" fmla="val 41551"/>
              <a:gd name="adj3" fmla="val -4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59" idx="2"/>
            <a:endCxn id="46" idx="0"/>
          </p:cNvCxnSpPr>
          <p:nvPr/>
        </p:nvCxnSpPr>
        <p:spPr>
          <a:xfrm flipH="1" rot="16200000">
            <a:off x="13583160" y="2543760"/>
            <a:ext cx="262440" cy="3600"/>
          </a:xfrm>
          <a:prstGeom prst="bentConnector3">
            <a:avLst>
              <a:gd name="adj1" fmla="val 5247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5310360" y="2071800"/>
            <a:ext cx="1164960" cy="323640"/>
          </a:xfrm>
          <a:prstGeom prst="rect">
            <a:avLst/>
          </a:prstGeom>
          <a:solidFill>
            <a:srgbClr val="ffe1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47760" y="2071800"/>
            <a:ext cx="1641600" cy="323640"/>
          </a:xfrm>
          <a:prstGeom prst="rect">
            <a:avLst/>
          </a:prstGeom>
          <a:solidFill>
            <a:srgbClr val="ffe1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.Call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60" idx="0"/>
            <a:endCxn id="61" idx="2"/>
          </p:cNvCxnSpPr>
          <p:nvPr/>
        </p:nvCxnSpPr>
        <p:spPr>
          <a:xfrm flipH="1" flipV="1" rot="5400000">
            <a:off x="5144760" y="-691920"/>
            <a:ext cx="587880" cy="4940640"/>
          </a:xfrm>
          <a:prstGeom prst="bentConnector3">
            <a:avLst>
              <a:gd name="adj1" fmla="val 48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5315040" y="2495520"/>
            <a:ext cx="1657440" cy="53352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 to Next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59" idx="0"/>
            <a:endCxn id="61" idx="2"/>
          </p:cNvCxnSpPr>
          <p:nvPr/>
        </p:nvCxnSpPr>
        <p:spPr>
          <a:xfrm flipH="1" flipV="1" rot="5400000">
            <a:off x="6607080" y="770040"/>
            <a:ext cx="587880" cy="2016360"/>
          </a:xfrm>
          <a:prstGeom prst="bentConnector3">
            <a:avLst>
              <a:gd name="adj1" fmla="val 48958"/>
            </a:avLst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953800" y="6648480"/>
            <a:ext cx="2590920" cy="641988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65120" y="2844720"/>
            <a:ext cx="907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728200" y="1608120"/>
            <a:ext cx="1268280" cy="395280"/>
          </a:xfrm>
          <a:prstGeom prst="rect">
            <a:avLst/>
          </a:prstGeom>
          <a:solidFill>
            <a:srgbClr val="ffe1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65120" y="2490840"/>
            <a:ext cx="1209960" cy="47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. SOU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024920" y="2844720"/>
            <a:ext cx="8604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2844720"/>
            <a:ext cx="10476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65120" y="2844720"/>
            <a:ext cx="907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65120" y="2490840"/>
            <a:ext cx="1209960" cy="47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. SOU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0880" y="2490840"/>
            <a:ext cx="1084320" cy="47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. DISPL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036080" y="2490840"/>
            <a:ext cx="1166760" cy="47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.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254040" y="2490840"/>
            <a:ext cx="1268280" cy="47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. 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139720" y="2490840"/>
            <a:ext cx="1241640" cy="47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. SECUR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250960" y="3048120"/>
            <a:ext cx="1120680" cy="4633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.1 Lock Mo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250960" y="4203720"/>
            <a:ext cx="1120680" cy="46368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.2 Restri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250960" y="4757760"/>
            <a:ext cx="1120680" cy="46368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.3 Clear C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302760" y="4119480"/>
            <a:ext cx="9158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250960" y="5305320"/>
            <a:ext cx="1120680" cy="4651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.4 Clear 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261960" y="2849400"/>
            <a:ext cx="1029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250960" y="5853240"/>
            <a:ext cx="1120680" cy="4651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.5 Emergency#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250960" y="6391440"/>
            <a:ext cx="1120680" cy="4633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.6 New Lock 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144760" y="2849400"/>
            <a:ext cx="8388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4" idx="2"/>
            <a:endCxn id="176" idx="1"/>
          </p:cNvCxnSpPr>
          <p:nvPr/>
        </p:nvCxnSpPr>
        <p:spPr>
          <a:xfrm flipH="1" rot="16200000">
            <a:off x="14069880" y="3098160"/>
            <a:ext cx="299160" cy="64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84" idx="2"/>
            <a:endCxn id="177" idx="1"/>
          </p:cNvCxnSpPr>
          <p:nvPr/>
        </p:nvCxnSpPr>
        <p:spPr>
          <a:xfrm flipH="1" rot="16200000">
            <a:off x="13492080" y="3676320"/>
            <a:ext cx="1455120" cy="64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7" name=""/>
          <p:cNvCxnSpPr>
            <a:stCxn id="184" idx="2"/>
            <a:endCxn id="178" idx="1"/>
          </p:cNvCxnSpPr>
          <p:nvPr/>
        </p:nvCxnSpPr>
        <p:spPr>
          <a:xfrm flipH="1" rot="16200000">
            <a:off x="13214880" y="3953160"/>
            <a:ext cx="2009160" cy="64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4" idx="2"/>
            <a:endCxn id="180" idx="1"/>
          </p:cNvCxnSpPr>
          <p:nvPr/>
        </p:nvCxnSpPr>
        <p:spPr>
          <a:xfrm flipH="1" rot="16200000">
            <a:off x="12940200" y="4227840"/>
            <a:ext cx="2558520" cy="64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9" name=""/>
          <p:cNvCxnSpPr>
            <a:stCxn id="184" idx="2"/>
            <a:endCxn id="182" idx="1"/>
          </p:cNvCxnSpPr>
          <p:nvPr/>
        </p:nvCxnSpPr>
        <p:spPr>
          <a:xfrm flipH="1" rot="16200000">
            <a:off x="12666600" y="4501800"/>
            <a:ext cx="3106080" cy="64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90" name=""/>
          <p:cNvCxnSpPr>
            <a:stCxn id="184" idx="2"/>
            <a:endCxn id="183" idx="1"/>
          </p:cNvCxnSpPr>
          <p:nvPr/>
        </p:nvCxnSpPr>
        <p:spPr>
          <a:xfrm flipH="1" rot="16200000">
            <a:off x="12398400" y="4770000"/>
            <a:ext cx="3642480" cy="64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91" name=""/>
          <p:cNvSpPr/>
          <p:nvPr/>
        </p:nvSpPr>
        <p:spPr>
          <a:xfrm>
            <a:off x="3297240" y="2533680"/>
            <a:ext cx="1219320" cy="47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 CALL HISTO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38360" y="3094200"/>
            <a:ext cx="1011240" cy="4507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1 Outgo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8360" y="3638520"/>
            <a:ext cx="1011240" cy="4507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2 Incom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38360" y="4194000"/>
            <a:ext cx="1011240" cy="45108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3 Miss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38360" y="4749840"/>
            <a:ext cx="1000440" cy="46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4 Call Inf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02480" y="2490840"/>
            <a:ext cx="1101600" cy="47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. SCHEDU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02480" y="2844720"/>
            <a:ext cx="11268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37480" y="3051000"/>
            <a:ext cx="957240" cy="46548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.1 Add Ev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37480" y="3595680"/>
            <a:ext cx="957240" cy="4651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.2 View Dai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43600" y="4151160"/>
            <a:ext cx="957240" cy="4651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.3 View 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43600" y="4707000"/>
            <a:ext cx="957240" cy="465120"/>
          </a:xfrm>
          <a:prstGeom prst="rect">
            <a:avLst/>
          </a:prstGeom>
          <a:solidFill>
            <a:srgbClr val="f0f0f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.4 Erase 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6560" y="5251320"/>
            <a:ext cx="957240" cy="465120"/>
          </a:xfrm>
          <a:prstGeom prst="rect">
            <a:avLst/>
          </a:prstGeom>
          <a:solidFill>
            <a:srgbClr val="f0f0f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.5 Erase O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56080" y="5378400"/>
            <a:ext cx="893520" cy="2779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4.1 Last C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56080" y="5722920"/>
            <a:ext cx="893520" cy="2779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4.2 Home Cal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37000" y="6068880"/>
            <a:ext cx="893880" cy="2779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4.3 Roam Cal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56080" y="6426360"/>
            <a:ext cx="893520" cy="27756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4.4 All Cal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/>
          <p:nvPr/>
        </p:nvCxnSpPr>
        <p:spPr>
          <a:xfrm>
            <a:off x="3489120" y="5222520"/>
            <a:ext cx="4356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endCxn id="195" idx="1"/>
          </p:cNvCxnSpPr>
          <p:nvPr/>
        </p:nvCxnSpPr>
        <p:spPr>
          <a:xfrm flipH="1" rot="16200000">
            <a:off x="2418480" y="3962880"/>
            <a:ext cx="1962720" cy="78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09" name=""/>
          <p:cNvCxnSpPr/>
          <p:nvPr/>
        </p:nvCxnSpPr>
        <p:spPr>
          <a:xfrm flipH="1" rot="16200000">
            <a:off x="3255120" y="3123360"/>
            <a:ext cx="306720" cy="97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0" name=""/>
          <p:cNvCxnSpPr/>
          <p:nvPr/>
        </p:nvCxnSpPr>
        <p:spPr>
          <a:xfrm flipH="1" rot="16200000">
            <a:off x="2981880" y="3385800"/>
            <a:ext cx="853200" cy="97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1" name=""/>
          <p:cNvCxnSpPr/>
          <p:nvPr/>
        </p:nvCxnSpPr>
        <p:spPr>
          <a:xfrm flipH="1" rot="16200000">
            <a:off x="2704680" y="3696120"/>
            <a:ext cx="1407240" cy="97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1487520" y="3073320"/>
            <a:ext cx="1077840" cy="4651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.1 Ring sou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92200" y="3718080"/>
            <a:ext cx="1077840" cy="4651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.2 Ring Typ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95440" y="5410080"/>
            <a:ext cx="1077840" cy="46368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.3 Ring Volu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00680" y="9623520"/>
            <a:ext cx="1077840" cy="4651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ey 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6629400"/>
            <a:ext cx="1077840" cy="46368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.5 Ear Volu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06600" y="7227720"/>
            <a:ext cx="107784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.6 Aler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16040" y="7794720"/>
            <a:ext cx="1031760" cy="27756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.6.1 Fa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16040" y="8137440"/>
            <a:ext cx="1031760" cy="2779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.6.2 Minu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16040" y="8485200"/>
            <a:ext cx="1031760" cy="2779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.6.3 Serv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/>
          <p:nvPr/>
        </p:nvCxnSpPr>
        <p:spPr>
          <a:xfrm>
            <a:off x="1530000" y="7705440"/>
            <a:ext cx="1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"/>
          <p:cNvCxnSpPr/>
          <p:nvPr/>
        </p:nvCxnSpPr>
        <p:spPr>
          <a:xfrm flipH="1" flipV="1" rot="10800000">
            <a:off x="1608480" y="7957800"/>
            <a:ext cx="2520" cy="343440"/>
          </a:xfrm>
          <a:prstGeom prst="bentConnector3">
            <a:avLst>
              <a:gd name="adj1" fmla="val -400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1511280" y="6022800"/>
            <a:ext cx="1077840" cy="46548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.4 Key Volu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472600" y="3051000"/>
            <a:ext cx="906480" cy="46548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.1 Backligh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472600" y="4695840"/>
            <a:ext cx="906480" cy="4651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.2 Contra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474040" y="5678640"/>
            <a:ext cx="906480" cy="4633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.3 Bann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474040" y="7470720"/>
            <a:ext cx="906480" cy="46368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.5 Langu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474040" y="8694720"/>
            <a:ext cx="906480" cy="46368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.6 Ver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474040" y="9283680"/>
            <a:ext cx="906480" cy="46368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.7 My Phone#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474040" y="6245280"/>
            <a:ext cx="906480" cy="4633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.4 The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191600" y="3051000"/>
            <a:ext cx="1013040" cy="46548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.1 Data Set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201320" y="5826240"/>
            <a:ext cx="1012680" cy="4633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.3 Auto Answ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201320" y="6861240"/>
            <a:ext cx="1012680" cy="4633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.4 Auto Re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endCxn id="231" idx="1"/>
          </p:cNvCxnSpPr>
          <p:nvPr/>
        </p:nvCxnSpPr>
        <p:spPr>
          <a:xfrm flipH="1" rot="16200000">
            <a:off x="9976680" y="3068640"/>
            <a:ext cx="306720" cy="124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32" idx="1"/>
            <a:endCxn id="236" idx="0"/>
          </p:cNvCxnSpPr>
          <p:nvPr/>
        </p:nvCxnSpPr>
        <p:spPr>
          <a:xfrm rot="10800000">
            <a:off x="10065600" y="3456720"/>
            <a:ext cx="135720" cy="26013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10171080" y="3554280"/>
            <a:ext cx="1012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210680" y="8035920"/>
            <a:ext cx="1011240" cy="4651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.5 One - Tou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064880" y="8278920"/>
            <a:ext cx="147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220400" y="8575560"/>
            <a:ext cx="1011240" cy="46368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.6 Voice Privac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220400" y="9488520"/>
            <a:ext cx="1011240" cy="46368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.7 Audio AG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064880" y="8794800"/>
            <a:ext cx="147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064880" y="9675720"/>
            <a:ext cx="147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396960" y="3051000"/>
            <a:ext cx="1077840" cy="46548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7.1 System S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396960" y="4370400"/>
            <a:ext cx="1077840" cy="46368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.2 Set N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396960" y="5391000"/>
            <a:ext cx="1077840" cy="46368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.3 Auto N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396960" y="5937120"/>
            <a:ext cx="1077840" cy="46368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.4 Force C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endCxn id="244" idx="1"/>
          </p:cNvCxnSpPr>
          <p:nvPr/>
        </p:nvCxnSpPr>
        <p:spPr>
          <a:xfrm flipH="1" rot="16200000">
            <a:off x="12188520" y="3075840"/>
            <a:ext cx="304200" cy="1137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endCxn id="245" idx="1"/>
          </p:cNvCxnSpPr>
          <p:nvPr/>
        </p:nvCxnSpPr>
        <p:spPr>
          <a:xfrm flipH="1" rot="16200000">
            <a:off x="11651400" y="3856320"/>
            <a:ext cx="1378800" cy="1137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endCxn id="246" idx="1"/>
          </p:cNvCxnSpPr>
          <p:nvPr/>
        </p:nvCxnSpPr>
        <p:spPr>
          <a:xfrm flipH="1" rot="16200000">
            <a:off x="11635560" y="4861080"/>
            <a:ext cx="1410480" cy="1137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endCxn id="247" idx="1"/>
          </p:cNvCxnSpPr>
          <p:nvPr/>
        </p:nvCxnSpPr>
        <p:spPr>
          <a:xfrm flipH="1" rot="16200000">
            <a:off x="11362320" y="5133960"/>
            <a:ext cx="1956600" cy="1137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52" name=""/>
          <p:cNvSpPr/>
          <p:nvPr/>
        </p:nvSpPr>
        <p:spPr>
          <a:xfrm>
            <a:off x="1625760" y="8836200"/>
            <a:ext cx="1031760" cy="27756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.6.4 Call Conn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166" idx="2"/>
            <a:endCxn id="171" idx="0"/>
          </p:cNvCxnSpPr>
          <p:nvPr/>
        </p:nvCxnSpPr>
        <p:spPr>
          <a:xfrm rot="5400000">
            <a:off x="5421960" y="-1449720"/>
            <a:ext cx="488160" cy="7394040"/>
          </a:xfrm>
          <a:prstGeom prst="bentConnector3">
            <a:avLst>
              <a:gd name="adj1" fmla="val 49815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54" name=""/>
          <p:cNvSpPr/>
          <p:nvPr/>
        </p:nvSpPr>
        <p:spPr>
          <a:xfrm>
            <a:off x="5005440" y="2505240"/>
            <a:ext cx="1219320" cy="47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. UTILITY &amp; F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43680" y="3059280"/>
            <a:ext cx="1010880" cy="4507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.1 WAKE 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43680" y="4237200"/>
            <a:ext cx="1010880" cy="4507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.2 CALCUL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43680" y="4792680"/>
            <a:ext cx="1010880" cy="4507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.3 World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endCxn id="255" idx="1"/>
          </p:cNvCxnSpPr>
          <p:nvPr/>
        </p:nvCxnSpPr>
        <p:spPr>
          <a:xfrm flipH="1" rot="16200000">
            <a:off x="4935600" y="3076200"/>
            <a:ext cx="300600" cy="11664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57" idx="1"/>
            <a:endCxn id="254" idx="1"/>
          </p:cNvCxnSpPr>
          <p:nvPr/>
        </p:nvCxnSpPr>
        <p:spPr>
          <a:xfrm rot="10800000">
            <a:off x="5004720" y="2742480"/>
            <a:ext cx="138960" cy="2275200"/>
          </a:xfrm>
          <a:prstGeom prst="bentConnector3">
            <a:avLst>
              <a:gd name="adj1" fmla="val 265454"/>
            </a:avLst>
          </a:prstGeom>
          <a:ln w="0">
            <a:noFill/>
          </a:ln>
        </p:spPr>
      </p:cxnSp>
      <p:cxnSp>
        <p:nvCxnSpPr>
          <p:cNvPr id="260" name=""/>
          <p:cNvCxnSpPr/>
          <p:nvPr/>
        </p:nvCxnSpPr>
        <p:spPr>
          <a:xfrm flipH="1" flipV="1" rot="10800000">
            <a:off x="5155920" y="5068800"/>
            <a:ext cx="2160" cy="581400"/>
          </a:xfrm>
          <a:prstGeom prst="bentConnector3">
            <a:avLst>
              <a:gd name="adj1" fmla="val -780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61" name=""/>
          <p:cNvCxnSpPr/>
          <p:nvPr/>
        </p:nvCxnSpPr>
        <p:spPr>
          <a:xfrm flipH="1" flipV="1" rot="10800000">
            <a:off x="5155920" y="4487760"/>
            <a:ext cx="2160" cy="581400"/>
          </a:xfrm>
          <a:prstGeom prst="bentConnector3">
            <a:avLst>
              <a:gd name="adj1" fmla="val -780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62" name=""/>
          <p:cNvSpPr/>
          <p:nvPr/>
        </p:nvSpPr>
        <p:spPr>
          <a:xfrm>
            <a:off x="15809760" y="2503440"/>
            <a:ext cx="111600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9. PHONE BOO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809760" y="2857680"/>
            <a:ext cx="9864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951240" y="3063960"/>
            <a:ext cx="966600" cy="4651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9.1 Find Na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951240" y="3608280"/>
            <a:ext cx="966600" cy="4651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9.2 Find En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951240" y="4164120"/>
            <a:ext cx="966600" cy="4651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9.3 Find Em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951240" y="4719600"/>
            <a:ext cx="966600" cy="4651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9.4 Add En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3" idx="2"/>
            <a:endCxn id="264" idx="1"/>
          </p:cNvCxnSpPr>
          <p:nvPr/>
        </p:nvCxnSpPr>
        <p:spPr>
          <a:xfrm flipH="1" rot="16200000">
            <a:off x="15751080" y="3096720"/>
            <a:ext cx="308520" cy="92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69" name=""/>
          <p:cNvCxnSpPr>
            <a:stCxn id="263" idx="2"/>
            <a:endCxn id="265" idx="1"/>
          </p:cNvCxnSpPr>
          <p:nvPr/>
        </p:nvCxnSpPr>
        <p:spPr>
          <a:xfrm flipH="1" rot="16200000">
            <a:off x="15478920" y="3369240"/>
            <a:ext cx="853200" cy="92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70" name=""/>
          <p:cNvCxnSpPr>
            <a:stCxn id="263" idx="2"/>
            <a:endCxn id="266" idx="1"/>
          </p:cNvCxnSpPr>
          <p:nvPr/>
        </p:nvCxnSpPr>
        <p:spPr>
          <a:xfrm flipH="1" rot="16200000">
            <a:off x="15201000" y="3646800"/>
            <a:ext cx="1408680" cy="92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263" idx="2"/>
            <a:endCxn id="267" idx="1"/>
          </p:cNvCxnSpPr>
          <p:nvPr/>
        </p:nvCxnSpPr>
        <p:spPr>
          <a:xfrm flipH="1" rot="16200000">
            <a:off x="14923440" y="3924720"/>
            <a:ext cx="1963800" cy="92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72" name=""/>
          <p:cNvSpPr/>
          <p:nvPr/>
        </p:nvSpPr>
        <p:spPr>
          <a:xfrm>
            <a:off x="5138640" y="5396040"/>
            <a:ext cx="1038240" cy="52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.4 Gam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46640" y="6094440"/>
            <a:ext cx="947880" cy="31284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.4.1 Comanch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46640" y="6481800"/>
            <a:ext cx="947880" cy="31284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.4.2 Black Ja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46640" y="6872400"/>
            <a:ext cx="947880" cy="31248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.4.3 Set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/>
          <p:nvPr/>
        </p:nvCxnSpPr>
        <p:spPr>
          <a:xfrm>
            <a:off x="5189040" y="5919480"/>
            <a:ext cx="5004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77" name=""/>
          <p:cNvSpPr/>
          <p:nvPr/>
        </p:nvSpPr>
        <p:spPr>
          <a:xfrm flipV="1">
            <a:off x="5178600" y="5919480"/>
            <a:ext cx="1440" cy="40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H="1" flipV="1" rot="10800000">
            <a:off x="5233680" y="6263280"/>
            <a:ext cx="2160" cy="386280"/>
          </a:xfrm>
          <a:prstGeom prst="bentConnector3">
            <a:avLst>
              <a:gd name="adj1" fmla="val -370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79" name=""/>
          <p:cNvCxnSpPr>
            <a:stCxn id="166" idx="2"/>
          </p:cNvCxnSpPr>
          <p:nvPr/>
        </p:nvCxnSpPr>
        <p:spPr>
          <a:xfrm flipH="1" rot="16200000">
            <a:off x="11820240" y="-455040"/>
            <a:ext cx="430920" cy="5347080"/>
          </a:xfrm>
          <a:prstGeom prst="bentConnector3">
            <a:avLst>
              <a:gd name="adj1" fmla="val 49749"/>
            </a:avLst>
          </a:prstGeom>
          <a:ln w="0">
            <a:noFill/>
          </a:ln>
        </p:spPr>
      </p:cxnSp>
      <p:sp>
        <p:nvSpPr>
          <p:cNvPr id="280" name=""/>
          <p:cNvSpPr/>
          <p:nvPr/>
        </p:nvSpPr>
        <p:spPr>
          <a:xfrm>
            <a:off x="5194440" y="8096400"/>
            <a:ext cx="1011240" cy="4507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.5 Picture M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rot="10800000">
            <a:off x="8344800" y="2975760"/>
            <a:ext cx="114840" cy="308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2" name=""/>
          <p:cNvCxnSpPr/>
          <p:nvPr/>
        </p:nvCxnSpPr>
        <p:spPr>
          <a:xfrm flipH="1" flipV="1" rot="10800000">
            <a:off x="5233680" y="6644880"/>
            <a:ext cx="2160" cy="386640"/>
          </a:xfrm>
          <a:prstGeom prst="bentConnector3">
            <a:avLst>
              <a:gd name="adj1" fmla="val -370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83" name=""/>
          <p:cNvSpPr/>
          <p:nvPr/>
        </p:nvSpPr>
        <p:spPr>
          <a:xfrm flipH="1">
            <a:off x="1415520" y="7458120"/>
            <a:ext cx="10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1428840" y="5622840"/>
            <a:ext cx="10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415520" y="3956040"/>
            <a:ext cx="10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1415520" y="6842160"/>
            <a:ext cx="10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025720" y="6867360"/>
            <a:ext cx="10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/>
          <p:nvPr/>
        </p:nvCxnSpPr>
        <p:spPr>
          <a:xfrm flipH="1" flipV="1" rot="5400000">
            <a:off x="7237800" y="392400"/>
            <a:ext cx="502560" cy="3749040"/>
          </a:xfrm>
          <a:prstGeom prst="bentConnector3">
            <a:avLst>
              <a:gd name="adj1" fmla="val 546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" name=""/>
          <p:cNvCxnSpPr/>
          <p:nvPr/>
        </p:nvCxnSpPr>
        <p:spPr>
          <a:xfrm rot="10800000">
            <a:off x="5149080" y="5657040"/>
            <a:ext cx="56160" cy="3353760"/>
          </a:xfrm>
          <a:prstGeom prst="bentConnector3">
            <a:avLst>
              <a:gd name="adj1" fmla="val 31419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90" name=""/>
          <p:cNvSpPr/>
          <p:nvPr/>
        </p:nvSpPr>
        <p:spPr>
          <a:xfrm>
            <a:off x="4435560" y="9956880"/>
            <a:ext cx="1077840" cy="4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Hidden Menu 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94440" y="8785080"/>
            <a:ext cx="1011240" cy="45108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.6 Melody Mg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/>
          <p:nvPr/>
        </p:nvCxnSpPr>
        <p:spPr>
          <a:xfrm rot="10800000">
            <a:off x="5027040" y="2743200"/>
            <a:ext cx="202320" cy="557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3" name=""/>
          <p:cNvSpPr/>
          <p:nvPr/>
        </p:nvSpPr>
        <p:spPr>
          <a:xfrm>
            <a:off x="1695600" y="3443400"/>
            <a:ext cx="998280" cy="26172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9 ring sou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97040" y="4299120"/>
            <a:ext cx="998640" cy="87948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-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-vi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-vib1 + 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-vib2 + 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-vib3 + 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-lam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95600" y="5721480"/>
            <a:ext cx="998280" cy="26172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level + mu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31960" y="6315120"/>
            <a:ext cx="998640" cy="26172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level + mu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31960" y="6932520"/>
            <a:ext cx="998640" cy="26208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lev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65360" y="9020160"/>
            <a:ext cx="666720" cy="17928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n / 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65360" y="8664480"/>
            <a:ext cx="666720" cy="17964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n / 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41600" y="8285040"/>
            <a:ext cx="666720" cy="17964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n / 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52760" y="7918560"/>
            <a:ext cx="666720" cy="17928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n / 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81600" y="9650520"/>
            <a:ext cx="857160" cy="17928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ong / norm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73520" y="3375000"/>
            <a:ext cx="866880" cy="26208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0 ite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86120" y="3944880"/>
            <a:ext cx="866880" cy="26208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0 ite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762360" y="4467240"/>
            <a:ext cx="866880" cy="26208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0 ite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24480" y="3597120"/>
            <a:ext cx="666720" cy="52236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o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dai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08720" y="5110200"/>
            <a:ext cx="866520" cy="26208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2 c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14920" y="8397720"/>
            <a:ext cx="866880" cy="26208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 ite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662440" y="9180360"/>
            <a:ext cx="866880" cy="26208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 ite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655120" y="3693960"/>
            <a:ext cx="949320" cy="92556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-Always 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-Always 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-on w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cellcase op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-30 secon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-10 secon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655120" y="5256360"/>
            <a:ext cx="888840" cy="36972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1 lev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 0 ~ 100 % 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655120" y="6804000"/>
            <a:ext cx="892080" cy="45072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defaul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analog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347480" y="3551400"/>
            <a:ext cx="906480" cy="23940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.1.1Data/F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358280" y="4343400"/>
            <a:ext cx="906480" cy="23976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.1.2Data Bau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530000" y="3848040"/>
            <a:ext cx="689040" cy="46368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data 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fax 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84880" y="7259760"/>
            <a:ext cx="906480" cy="23976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.4.3.1  sound volu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614920" y="7435800"/>
            <a:ext cx="998640" cy="26208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level + mu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97480" y="7721640"/>
            <a:ext cx="906480" cy="20484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.4.3.2 backligh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86360" y="7900920"/>
            <a:ext cx="666720" cy="17928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n / 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0066320" y="325440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577520" y="8354880"/>
            <a:ext cx="985680" cy="19080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able / dis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576080" y="9090000"/>
            <a:ext cx="688680" cy="33336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stand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enhanc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658520" y="9848880"/>
            <a:ext cx="666720" cy="17928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n / 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971520" y="5711760"/>
            <a:ext cx="666720" cy="17928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n / 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816000" y="6316560"/>
            <a:ext cx="892080" cy="25092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e ana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517720" y="3592440"/>
            <a:ext cx="925560" cy="51300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ne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Alway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on power 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752800" y="4519440"/>
            <a:ext cx="688680" cy="17964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yes / 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763600" y="5100480"/>
            <a:ext cx="689040" cy="17964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yes / 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752800" y="5610240"/>
            <a:ext cx="688680" cy="17928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yes / 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497360" y="2838600"/>
            <a:ext cx="689040" cy="29844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99 en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x 5 ite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16920" y="5610240"/>
            <a:ext cx="688680" cy="17928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yes / 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216920" y="5051520"/>
            <a:ext cx="688680" cy="17928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yes / 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" name=""/>
          <p:cNvCxnSpPr>
            <a:stCxn id="316" idx="1"/>
            <a:endCxn id="318" idx="1"/>
          </p:cNvCxnSpPr>
          <p:nvPr/>
        </p:nvCxnSpPr>
        <p:spPr>
          <a:xfrm flipH="1" flipV="1" rot="10800000">
            <a:off x="5383800" y="7379280"/>
            <a:ext cx="13320" cy="445320"/>
          </a:xfrm>
          <a:prstGeom prst="bentConnector3">
            <a:avLst>
              <a:gd name="adj1" fmla="val -58611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34" name=""/>
          <p:cNvSpPr/>
          <p:nvPr/>
        </p:nvSpPr>
        <p:spPr>
          <a:xfrm flipV="1">
            <a:off x="5305320" y="720108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/>
          <p:nvPr/>
        </p:nvCxnSpPr>
        <p:spPr>
          <a:xfrm flipV="1" rot="10800000">
            <a:off x="1404360" y="3306240"/>
            <a:ext cx="72000" cy="4152240"/>
          </a:xfrm>
          <a:prstGeom prst="bentConnector4">
            <a:avLst>
              <a:gd name="adj1" fmla="val 86432"/>
              <a:gd name="adj2" fmla="val 1108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6" name=""/>
          <p:cNvCxnSpPr/>
          <p:nvPr/>
        </p:nvCxnSpPr>
        <p:spPr>
          <a:xfrm flipH="1" rot="16200000">
            <a:off x="1270080" y="3089880"/>
            <a:ext cx="351360" cy="83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37" name=""/>
          <p:cNvCxnSpPr/>
          <p:nvPr/>
        </p:nvCxnSpPr>
        <p:spPr>
          <a:xfrm flipH="1" flipV="1" rot="10800000">
            <a:off x="1606320" y="8298360"/>
            <a:ext cx="2160" cy="343800"/>
          </a:xfrm>
          <a:prstGeom prst="bentConnector3">
            <a:avLst>
              <a:gd name="adj1" fmla="val -400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38" name=""/>
          <p:cNvCxnSpPr/>
          <p:nvPr/>
        </p:nvCxnSpPr>
        <p:spPr>
          <a:xfrm flipH="1" flipV="1" rot="10800000">
            <a:off x="1606320" y="8631720"/>
            <a:ext cx="2160" cy="343800"/>
          </a:xfrm>
          <a:prstGeom prst="bentConnector3">
            <a:avLst>
              <a:gd name="adj1" fmla="val -400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39" name=""/>
          <p:cNvCxnSpPr/>
          <p:nvPr/>
        </p:nvCxnSpPr>
        <p:spPr>
          <a:xfrm flipH="1" rot="16200000">
            <a:off x="1505880" y="4322520"/>
            <a:ext cx="351360" cy="8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40" name=""/>
          <p:cNvCxnSpPr/>
          <p:nvPr/>
        </p:nvCxnSpPr>
        <p:spPr>
          <a:xfrm flipH="1" rot="16200000">
            <a:off x="5219640" y="3658320"/>
            <a:ext cx="351360" cy="83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41" name=""/>
          <p:cNvCxnSpPr/>
          <p:nvPr/>
        </p:nvCxnSpPr>
        <p:spPr>
          <a:xfrm flipH="1" rot="16200000">
            <a:off x="8454960" y="3659400"/>
            <a:ext cx="351360" cy="83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42" name=""/>
          <p:cNvCxnSpPr/>
          <p:nvPr/>
        </p:nvCxnSpPr>
        <p:spPr>
          <a:xfrm flipH="1" rot="16200000">
            <a:off x="8431200" y="5299200"/>
            <a:ext cx="351360" cy="83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43" name=""/>
          <p:cNvCxnSpPr/>
          <p:nvPr/>
        </p:nvCxnSpPr>
        <p:spPr>
          <a:xfrm flipH="1" rot="16200000">
            <a:off x="8454960" y="6855480"/>
            <a:ext cx="351360" cy="83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8678880" y="8075520"/>
            <a:ext cx="892080" cy="45108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-engli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-portugue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5" name=""/>
          <p:cNvCxnSpPr/>
          <p:nvPr/>
        </p:nvCxnSpPr>
        <p:spPr>
          <a:xfrm flipH="1" rot="16200000">
            <a:off x="8466120" y="8066160"/>
            <a:ext cx="351360" cy="83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224" idx="1"/>
            <a:endCxn id="229" idx="1"/>
          </p:cNvCxnSpPr>
          <p:nvPr/>
        </p:nvCxnSpPr>
        <p:spPr>
          <a:xfrm flipH="1" flipV="1" rot="10800000">
            <a:off x="8472240" y="3284280"/>
            <a:ext cx="2160" cy="6231600"/>
          </a:xfrm>
          <a:prstGeom prst="bentConnector3">
            <a:avLst>
              <a:gd name="adj1" fmla="val -69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47" name=""/>
          <p:cNvSpPr/>
          <p:nvPr/>
        </p:nvSpPr>
        <p:spPr>
          <a:xfrm flipH="1">
            <a:off x="8335440" y="7719840"/>
            <a:ext cx="11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8346600" y="6461280"/>
            <a:ext cx="11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8346600" y="5938920"/>
            <a:ext cx="11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8335440" y="4929120"/>
            <a:ext cx="11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335440" y="8907480"/>
            <a:ext cx="11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/>
          <p:nvPr/>
        </p:nvCxnSpPr>
        <p:spPr>
          <a:xfrm flipH="1" rot="16200000">
            <a:off x="10316520" y="3931920"/>
            <a:ext cx="351360" cy="8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10530000" y="4635360"/>
            <a:ext cx="689040" cy="46368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19,2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115,2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230,4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H="1" rot="16200000">
            <a:off x="10329120" y="4706640"/>
            <a:ext cx="351360" cy="8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10482120" y="7372440"/>
            <a:ext cx="1235160" cy="63504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-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-everu 60 secon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-every 30 secon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-every 10 secon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>
            <a:endCxn id="355" idx="1"/>
          </p:cNvCxnSpPr>
          <p:nvPr/>
        </p:nvCxnSpPr>
        <p:spPr>
          <a:xfrm flipH="1" rot="16200000">
            <a:off x="10252440" y="7461000"/>
            <a:ext cx="367560" cy="91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12650760" y="3597120"/>
            <a:ext cx="903240" cy="64296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stand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home on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B on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A on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8" name=""/>
          <p:cNvCxnSpPr/>
          <p:nvPr/>
        </p:nvCxnSpPr>
        <p:spPr>
          <a:xfrm flipH="1" rot="16200000">
            <a:off x="12426840" y="3647160"/>
            <a:ext cx="351360" cy="83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359" name=""/>
          <p:cNvSpPr/>
          <p:nvPr/>
        </p:nvSpPr>
        <p:spPr>
          <a:xfrm>
            <a:off x="12650760" y="5000760"/>
            <a:ext cx="892080" cy="33156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select NAM #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select NAM #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rot="16200000">
            <a:off x="12463560" y="4977000"/>
            <a:ext cx="351360" cy="83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61" name=""/>
          <p:cNvCxnSpPr/>
          <p:nvPr/>
        </p:nvCxnSpPr>
        <p:spPr>
          <a:xfrm flipH="1" rot="16200000">
            <a:off x="14301720" y="3659400"/>
            <a:ext cx="351360" cy="83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endCxn id="322" idx="1"/>
          </p:cNvCxnSpPr>
          <p:nvPr/>
        </p:nvCxnSpPr>
        <p:spPr>
          <a:xfrm flipH="1" rot="16200000">
            <a:off x="10401840" y="9083160"/>
            <a:ext cx="221400" cy="1263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63" name=""/>
          <p:cNvCxnSpPr>
            <a:stCxn id="173" idx="0"/>
            <a:endCxn id="166" idx="2"/>
          </p:cNvCxnSpPr>
          <p:nvPr/>
        </p:nvCxnSpPr>
        <p:spPr>
          <a:xfrm flipV="1" rot="16200000">
            <a:off x="9747720" y="1617840"/>
            <a:ext cx="488160" cy="1257840"/>
          </a:xfrm>
          <a:prstGeom prst="bentConnector3">
            <a:avLst>
              <a:gd name="adj1" fmla="val 498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4" name=""/>
          <p:cNvCxnSpPr/>
          <p:nvPr/>
        </p:nvCxnSpPr>
        <p:spPr>
          <a:xfrm flipV="1" rot="16200000">
            <a:off x="10877040" y="459720"/>
            <a:ext cx="488160" cy="3574080"/>
          </a:xfrm>
          <a:prstGeom prst="bentConnector3">
            <a:avLst>
              <a:gd name="adj1" fmla="val 498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5" name=""/>
          <p:cNvCxnSpPr>
            <a:stCxn id="175" idx="0"/>
            <a:endCxn id="166" idx="2"/>
          </p:cNvCxnSpPr>
          <p:nvPr/>
        </p:nvCxnSpPr>
        <p:spPr>
          <a:xfrm flipV="1" rot="16200000">
            <a:off x="11817720" y="-452160"/>
            <a:ext cx="488160" cy="5398200"/>
          </a:xfrm>
          <a:prstGeom prst="bentConnector3">
            <a:avLst>
              <a:gd name="adj1" fmla="val 498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6" name=""/>
          <p:cNvCxnSpPr/>
          <p:nvPr/>
        </p:nvCxnSpPr>
        <p:spPr>
          <a:xfrm flipV="1" rot="16200000">
            <a:off x="12615480" y="-1259640"/>
            <a:ext cx="500760" cy="7006320"/>
          </a:xfrm>
          <a:prstGeom prst="bentConnector3">
            <a:avLst>
              <a:gd name="adj1" fmla="val 4978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7" name=""/>
          <p:cNvCxnSpPr>
            <a:stCxn id="172" idx="0"/>
            <a:endCxn id="166" idx="2"/>
          </p:cNvCxnSpPr>
          <p:nvPr/>
        </p:nvCxnSpPr>
        <p:spPr>
          <a:xfrm flipH="1" flipV="1" rot="5400000">
            <a:off x="8859600" y="1987200"/>
            <a:ext cx="488160" cy="519840"/>
          </a:xfrm>
          <a:prstGeom prst="bentConnector3">
            <a:avLst>
              <a:gd name="adj1" fmla="val 498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196" idx="0"/>
            <a:endCxn id="166" idx="2"/>
          </p:cNvCxnSpPr>
          <p:nvPr/>
        </p:nvCxnSpPr>
        <p:spPr>
          <a:xfrm flipH="1" flipV="1" rot="5400000">
            <a:off x="8064000" y="1191600"/>
            <a:ext cx="488160" cy="2110680"/>
          </a:xfrm>
          <a:prstGeom prst="bentConnector3">
            <a:avLst>
              <a:gd name="adj1" fmla="val 498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199" idx="1"/>
            <a:endCxn id="197" idx="2"/>
          </p:cNvCxnSpPr>
          <p:nvPr/>
        </p:nvCxnSpPr>
        <p:spPr>
          <a:xfrm rot="10800000">
            <a:off x="6759000" y="2975760"/>
            <a:ext cx="78480" cy="853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198" idx="1"/>
            <a:endCxn id="197" idx="2"/>
          </p:cNvCxnSpPr>
          <p:nvPr/>
        </p:nvCxnSpPr>
        <p:spPr>
          <a:xfrm rot="10800000">
            <a:off x="6759000" y="2975760"/>
            <a:ext cx="78480" cy="308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1" name=""/>
          <p:cNvCxnSpPr>
            <a:stCxn id="206" idx="1"/>
          </p:cNvCxnSpPr>
          <p:nvPr/>
        </p:nvCxnSpPr>
        <p:spPr>
          <a:xfrm rot="10800000">
            <a:off x="3504600" y="5247720"/>
            <a:ext cx="51480" cy="1318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205" idx="1"/>
          </p:cNvCxnSpPr>
          <p:nvPr/>
        </p:nvCxnSpPr>
        <p:spPr>
          <a:xfrm rot="10800000">
            <a:off x="3504600" y="5257080"/>
            <a:ext cx="32400" cy="951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204" idx="1"/>
          </p:cNvCxnSpPr>
          <p:nvPr/>
        </p:nvCxnSpPr>
        <p:spPr>
          <a:xfrm rot="10800000">
            <a:off x="3504600" y="5257080"/>
            <a:ext cx="51480" cy="605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203" idx="1"/>
          </p:cNvCxnSpPr>
          <p:nvPr/>
        </p:nvCxnSpPr>
        <p:spPr>
          <a:xfrm rot="10800000">
            <a:off x="3504600" y="5257080"/>
            <a:ext cx="51480" cy="261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7210440" y="3387600"/>
            <a:ext cx="689040" cy="27468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0 ev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202" idx="1"/>
            <a:endCxn id="197" idx="2"/>
          </p:cNvCxnSpPr>
          <p:nvPr/>
        </p:nvCxnSpPr>
        <p:spPr>
          <a:xfrm rot="10800000">
            <a:off x="6759000" y="2976480"/>
            <a:ext cx="97560" cy="2508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201" idx="1"/>
            <a:endCxn id="197" idx="2"/>
          </p:cNvCxnSpPr>
          <p:nvPr/>
        </p:nvCxnSpPr>
        <p:spPr>
          <a:xfrm rot="10800000">
            <a:off x="6759000" y="2975760"/>
            <a:ext cx="84600" cy="1964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200" idx="1"/>
            <a:endCxn id="197" idx="2"/>
          </p:cNvCxnSpPr>
          <p:nvPr/>
        </p:nvCxnSpPr>
        <p:spPr>
          <a:xfrm rot="10800000">
            <a:off x="6759000" y="2975760"/>
            <a:ext cx="84600" cy="1409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9" name=""/>
          <p:cNvSpPr/>
          <p:nvPr/>
        </p:nvSpPr>
        <p:spPr>
          <a:xfrm>
            <a:off x="10287000" y="3517920"/>
            <a:ext cx="0" cy="9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287000" y="4457880"/>
            <a:ext cx="6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299600" y="3657600"/>
            <a:ext cx="6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220400" y="5168880"/>
            <a:ext cx="1011240" cy="4651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6.2 AnswerTyp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074240" y="5411880"/>
            <a:ext cx="147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586880" y="5487840"/>
            <a:ext cx="995400" cy="31464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Cellcase Answer</a:t>
            </a:r>
            <a:br>
              <a:rPr sz="900"/>
            </a:b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enable / dis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0472760" y="6321600"/>
            <a:ext cx="1184400" cy="46332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After 3se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After 10se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243" idx="0"/>
          </p:cNvCxnSpPr>
          <p:nvPr/>
        </p:nvCxnSpPr>
        <p:spPr>
          <a:xfrm flipV="1">
            <a:off x="10064880" y="5895360"/>
            <a:ext cx="3600" cy="3780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7" name=""/>
          <p:cNvSpPr/>
          <p:nvPr/>
        </p:nvSpPr>
        <p:spPr>
          <a:xfrm>
            <a:off x="10064880" y="7089840"/>
            <a:ext cx="147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4752800" y="6181560"/>
            <a:ext cx="688680" cy="17964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ent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85" idx="1"/>
          </p:cNvCxnSpPr>
          <p:nvPr/>
        </p:nvCxnSpPr>
        <p:spPr>
          <a:xfrm rot="10800000">
            <a:off x="10391040" y="6333480"/>
            <a:ext cx="81360" cy="219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"/>
          <p:cNvCxnSpPr>
            <a:stCxn id="217" idx="1"/>
          </p:cNvCxnSpPr>
          <p:nvPr/>
        </p:nvCxnSpPr>
        <p:spPr>
          <a:xfrm>
            <a:off x="1506240" y="7459200"/>
            <a:ext cx="27720" cy="484920"/>
          </a:xfrm>
          <a:prstGeom prst="straightConnector1">
            <a:avLst/>
          </a:prstGeom>
          <a:ln w="0">
            <a:noFill/>
          </a:ln>
        </p:spPr>
      </p:cxnSp>
      <p:sp>
        <p:nvSpPr>
          <p:cNvPr id="391" name=""/>
          <p:cNvSpPr/>
          <p:nvPr/>
        </p:nvSpPr>
        <p:spPr>
          <a:xfrm flipV="1">
            <a:off x="1542960" y="7715160"/>
            <a:ext cx="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496880" y="9475920"/>
            <a:ext cx="1078200" cy="46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.0 Serv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06680" y="10042560"/>
            <a:ext cx="1031760" cy="2779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1.0.1 Service Prg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06680" y="10385280"/>
            <a:ext cx="1031760" cy="2779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.0.2 Short N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06680" y="10733040"/>
            <a:ext cx="1031760" cy="2779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.0.3 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>
            <a:off x="1520640" y="9953280"/>
            <a:ext cx="1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97" name=""/>
          <p:cNvCxnSpPr/>
          <p:nvPr/>
        </p:nvCxnSpPr>
        <p:spPr>
          <a:xfrm flipH="1" flipV="1" rot="10800000">
            <a:off x="1599840" y="10204920"/>
            <a:ext cx="2160" cy="343800"/>
          </a:xfrm>
          <a:prstGeom prst="bentConnector3">
            <a:avLst>
              <a:gd name="adj1" fmla="val -400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98" name=""/>
          <p:cNvSpPr/>
          <p:nvPr/>
        </p:nvSpPr>
        <p:spPr>
          <a:xfrm>
            <a:off x="1616040" y="11636280"/>
            <a:ext cx="1031760" cy="2779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1.0.4 Wap Set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1406520" y="9705960"/>
            <a:ext cx="10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32040" y="11074320"/>
            <a:ext cx="933480" cy="47484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Data / D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Port M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Diag. Bau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55960" y="10590120"/>
            <a:ext cx="1238040" cy="19836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AM setting (Simpl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33680" y="10252080"/>
            <a:ext cx="714240" cy="18900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AM set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392" idx="1"/>
          </p:cNvCxnSpPr>
          <p:nvPr/>
        </p:nvCxnSpPr>
        <p:spPr>
          <a:xfrm>
            <a:off x="1496520" y="9707040"/>
            <a:ext cx="27720" cy="484920"/>
          </a:xfrm>
          <a:prstGeom prst="straightConnector1">
            <a:avLst/>
          </a:prstGeom>
          <a:ln w="0">
            <a:noFill/>
          </a:ln>
        </p:spPr>
      </p:cxnSp>
      <p:sp>
        <p:nvSpPr>
          <p:cNvPr id="404" name=""/>
          <p:cNvSpPr/>
          <p:nvPr/>
        </p:nvSpPr>
        <p:spPr>
          <a:xfrm flipV="1">
            <a:off x="1533600" y="9963000"/>
            <a:ext cx="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41400" y="11979360"/>
            <a:ext cx="943200" cy="66492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- IP S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Port Set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Clear cach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Linkinfo CL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33400" y="1192536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33400" y="12296880"/>
            <a:ext cx="6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733400" y="1101096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733400" y="11382480"/>
            <a:ext cx="6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"/>
          <p:cNvCxnSpPr>
            <a:stCxn id="395" idx="1"/>
            <a:endCxn id="398" idx="1"/>
          </p:cNvCxnSpPr>
          <p:nvPr/>
        </p:nvCxnSpPr>
        <p:spPr>
          <a:xfrm flipH="1" flipV="1" rot="10800000">
            <a:off x="1606320" y="10871640"/>
            <a:ext cx="10080" cy="903960"/>
          </a:xfrm>
          <a:prstGeom prst="bentConnector3">
            <a:avLst>
              <a:gd name="adj1" fmla="val -9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1" name=""/>
          <p:cNvCxnSpPr/>
          <p:nvPr/>
        </p:nvCxnSpPr>
        <p:spPr>
          <a:xfrm>
            <a:off x="1533240" y="105346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2" name=""/>
          <p:cNvCxnSpPr/>
          <p:nvPr/>
        </p:nvCxnSpPr>
        <p:spPr>
          <a:xfrm>
            <a:off x="1396800" y="7458120"/>
            <a:ext cx="1080" cy="2248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3" name=""/>
          <p:cNvSpPr/>
          <p:nvPr/>
        </p:nvSpPr>
        <p:spPr>
          <a:xfrm>
            <a:off x="1000080" y="9401040"/>
            <a:ext cx="2552760" cy="33530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38400" y="12490560"/>
            <a:ext cx="9446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c0128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idden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PC Cod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450600" y="6723000"/>
            <a:ext cx="107820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.0 Field Serv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560400" y="7289640"/>
            <a:ext cx="1031760" cy="2779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.0.1 Field Test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2560400" y="8432640"/>
            <a:ext cx="1031760" cy="2779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.0.2 Force M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560400" y="9123480"/>
            <a:ext cx="1031760" cy="27756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.0.3 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/>
          <p:nvPr/>
        </p:nvCxnSpPr>
        <p:spPr>
          <a:xfrm>
            <a:off x="12474360" y="7200720"/>
            <a:ext cx="1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20" name=""/>
          <p:cNvSpPr/>
          <p:nvPr/>
        </p:nvSpPr>
        <p:spPr>
          <a:xfrm>
            <a:off x="12569760" y="10826640"/>
            <a:ext cx="1032120" cy="2779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7.0.5 Wap Set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12360240" y="6953400"/>
            <a:ext cx="10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785760" y="9464760"/>
            <a:ext cx="933480" cy="47448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Data / D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Port M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Diag. Bau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5" idx="1"/>
          </p:cNvCxnSpPr>
          <p:nvPr/>
        </p:nvCxnSpPr>
        <p:spPr>
          <a:xfrm>
            <a:off x="12450240" y="6954480"/>
            <a:ext cx="27720" cy="484920"/>
          </a:xfrm>
          <a:prstGeom prst="straightConnector1">
            <a:avLst/>
          </a:prstGeom>
          <a:ln w="0">
            <a:noFill/>
          </a:ln>
        </p:spPr>
      </p:cxnSp>
      <p:sp>
        <p:nvSpPr>
          <p:cNvPr id="424" name=""/>
          <p:cNvSpPr/>
          <p:nvPr/>
        </p:nvSpPr>
        <p:spPr>
          <a:xfrm flipV="1">
            <a:off x="12487320" y="7210080"/>
            <a:ext cx="0" cy="541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795120" y="11169720"/>
            <a:ext cx="943200" cy="66492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- IP S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Port Set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Clear cach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Linkinfo CL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687480" y="1111572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687480" y="11487240"/>
            <a:ext cx="6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687480" y="940104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2687480" y="9772560"/>
            <a:ext cx="6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134800" y="12585600"/>
            <a:ext cx="9446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c0128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idden Men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FSC Cod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2795120" y="7655040"/>
            <a:ext cx="943200" cy="72216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st Cal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lear Erro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oice 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2687480" y="760104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687480" y="7972560"/>
            <a:ext cx="6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2825360" y="8678880"/>
            <a:ext cx="1623960" cy="36180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Automatic/CDMA On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/AnalogOnly/Temp Ana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569760" y="9999720"/>
            <a:ext cx="1032120" cy="2779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.0.4 SMS M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2795120" y="10341000"/>
            <a:ext cx="1467000" cy="43668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Service Option (8k/13k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L3 Ack (On/Off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696840" y="10277640"/>
            <a:ext cx="0" cy="37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696840" y="10648800"/>
            <a:ext cx="6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2579480" y="11880720"/>
            <a:ext cx="1031760" cy="2779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.0.6 FCC T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844440" y="12126960"/>
            <a:ext cx="1471680" cy="27612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DMA FCC / AMPS FC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579480" y="12452400"/>
            <a:ext cx="1031760" cy="277920"/>
          </a:xfrm>
          <a:prstGeom prst="rect">
            <a:avLst/>
          </a:prstGeom>
          <a:solidFill>
            <a:srgbClr val="eeeee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.0.7 Key 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844440" y="12698280"/>
            <a:ext cx="880920" cy="276480"/>
          </a:xfrm>
          <a:prstGeom prst="foldedCorner">
            <a:avLst>
              <a:gd name="adj" fmla="val 12500"/>
            </a:avLst>
          </a:prstGeom>
          <a:solidFill>
            <a:srgbClr val="d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24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rmal / Lo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487320" y="126396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496680" y="120204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487320" y="10953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2506400" y="101538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487320" y="9258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2496680" y="8572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487320" y="74199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"/>
          <p:cNvCxnSpPr>
            <a:stCxn id="247" idx="1"/>
            <a:endCxn id="415" idx="1"/>
          </p:cNvCxnSpPr>
          <p:nvPr/>
        </p:nvCxnSpPr>
        <p:spPr>
          <a:xfrm flipH="1" flipV="1" rot="10800000">
            <a:off x="12395880" y="6167880"/>
            <a:ext cx="54360" cy="786600"/>
          </a:xfrm>
          <a:prstGeom prst="bentConnector3">
            <a:avLst>
              <a:gd name="adj1" fmla="val -202666"/>
            </a:avLst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9T11:57:58Z</dcterms:created>
  <dc:creator>김용삼</dc:creator>
  <dc:description/>
  <dc:language>en-US</dc:language>
  <cp:lastModifiedBy>Tommy</cp:lastModifiedBy>
  <cp:lastPrinted>2000-08-07T07:32:55Z</cp:lastPrinted>
  <dcterms:modified xsi:type="dcterms:W3CDTF">2002-07-06T23:24:29Z</dcterms:modified>
  <cp:revision>624</cp:revision>
  <dc:subject/>
  <dc:title>DP520_요구기능분해도</dc:title>
</cp:coreProperties>
</file>